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gif" ContentType="image/gif"/>
  <Override PartName="/ppt/media/image26.gif" ContentType="image/gif"/>
  <Override PartName="/ppt/media/image13.gif" ContentType="image/gif"/>
  <Override PartName="/ppt/media/image23.gif" ContentType="image/gif"/>
  <Override PartName="/ppt/media/image29.gif" ContentType="image/gif"/>
  <Override PartName="/ppt/media/image6.gif" ContentType="image/gif"/>
  <Override PartName="/ppt/media/image7.jpeg" ContentType="image/jpeg"/>
  <Override PartName="/ppt/media/image9.gif" ContentType="image/gif"/>
  <Override PartName="/ppt/media/image10.gif" ContentType="image/gif"/>
  <Override PartName="/ppt/media/image11.wmf" ContentType="image/x-wmf"/>
  <Override PartName="/ppt/media/image15.gif" ContentType="image/gif"/>
  <Override PartName="/ppt/media/image5.jpeg" ContentType="image/jpeg"/>
  <Override PartName="/ppt/media/image3.jpeg" ContentType="image/jpeg"/>
  <Override PartName="/ppt/media/image12.gif" ContentType="image/gif"/>
  <Override PartName="/ppt/media/image30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31.jpeg" ContentType="image/jpeg"/>
  <Override PartName="/ppt/media/image14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32.jpeg" ContentType="image/jpeg"/>
  <Override PartName="/ppt/media/image24.gif" ContentType="image/gif"/>
  <Override PartName="/ppt/media/image25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FDF-08D3-49B3-9159-01E26499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1E1-E95B-4FBC-81C7-FD1CA6FD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797-9EE3-4013-9A5F-D409D7D3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670-9681-42E2-8541-9BBF59CC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B0E-C4FC-4682-A4F7-A6889BC2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AAC-B1A8-407B-A21C-7C821D6D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B7F-A845-47C1-8831-BD2BCA1C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1CD-C36C-4B7C-9F8A-F3453D10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1A4-485D-4892-A3F0-AD24B971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E2E-FAEB-48B7-A3B9-8AA28FD8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09B-1985-4525-AF5F-1DB11E8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19B-F2FB-4384-84D5-986CA09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DE1D-7F1A-42D9-9952-5F770B355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hp?hl=en" TargetMode="External"/><Relationship Id="rId2" Type="http://schemas.openxmlformats.org/officeDocument/2006/relationships/hyperlink" Target="http://www.holyspiritinteractive.net/kids/questions/die.gif" TargetMode="External"/><Relationship Id="rId3" Type="http://schemas.openxmlformats.org/officeDocument/2006/relationships/hyperlink" Target="http://www.holyspiritinteractive.net/kids/questions/die.gif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beginning God created the heaven and the earth. But the earth had no shape. It was empty, covered with only darkness an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 the fifth day God made the whales an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2016360" cy="1501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1872000" cy="1455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58920" y="2205000"/>
            <a:ext cx="2303280" cy="1488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the bi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1352880" cy="1342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4360" y="1989000"/>
            <a:ext cx="1295280" cy="1092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1873440" cy="116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111924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877080" y="3789360"/>
            <a:ext cx="1440000" cy="1270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843280" y="2276640"/>
            <a:ext cx="1272960" cy="129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987640" y="4581360"/>
            <a:ext cx="1049400" cy="115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932360" y="4076640"/>
            <a:ext cx="1584360" cy="109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the sixth day God made all of the animals and insects. God saw that it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295640" cy="1030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00720" y="1989000"/>
            <a:ext cx="1440000" cy="1049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1439640" cy="1212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58428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067280" y="4581360"/>
            <a:ext cx="1360440" cy="76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1377720" cy="110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the sixth day God also created Adam and 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654280" cy="1144440"/>
        </p:xfrm>
        <a:graphic>
          <a:graphicData uri="http://schemas.openxmlformats.org/drawingml/2006/table">
            <a:tbl>
              <a:tblPr/>
              <a:tblGrid>
                <a:gridCol w="1708200"/>
                <a:gridCol w="946080"/>
              </a:tblGrid>
              <a:tr h="114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349360"/>
            <a:ext cx="2138400" cy="251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the last day, the seventh day, God rested and saw that all He had created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river"/>
          <p:cNvPicPr/>
          <p:nvPr/>
        </p:nvPicPr>
        <p:blipFill>
          <a:blip r:embed="rId1"/>
          <a:stretch/>
        </p:blipFill>
        <p:spPr>
          <a:xfrm>
            <a:off x="1547640" y="177336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n the Spirit of God hovered over the water and God said, ‘Let there be light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9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22360" y="800280"/>
            <a:ext cx="190800" cy="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249800" cy="339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 God divided the light from the darkness and He called the light the daytime and the darkness He called night time. This was the first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1701720"/>
            <a:ext cx="6624720" cy="4416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od divided the waters below from the waters above to make the sky and the sea. This was the second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347840"/>
            <a:ext cx="7416720" cy="474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this God said, "Let the water under the heaven be gathered together in one p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1698480"/>
            <a:ext cx="7056720" cy="396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let the dry land appear," and it happene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0000" cy="359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third day God said, "Let the earth produce grass, and plants, and fruit trees," and it happened; And God saw that it was go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232000" cy="209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943280" cy="215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56360" y="2421000"/>
            <a:ext cx="251928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the fourth day God made two great lights; the sun to rule b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313080" cy="431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the moon to rule by night. He also made the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970440" cy="41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8:50:03Z</dcterms:created>
  <dc:creator>Lynn Medland</dc:creator>
  <dc:description/>
  <dc:language>en-US</dc:language>
  <cp:lastModifiedBy>Mike Freedman</cp:lastModifiedBy>
  <dcterms:modified xsi:type="dcterms:W3CDTF">2006-06-18T13:07:03Z</dcterms:modified>
  <cp:revision>9</cp:revision>
  <dc:subject/>
  <dc:title>In the beginning God created the heaven and the earth.</dc:title>
</cp:coreProperties>
</file>