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8DE-DD25-43DA-8F2C-200A1AC6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922-2EC3-4705-99C4-662AF73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4CA-44F8-4079-8497-6E16650B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456-A28D-4C68-91B9-5A25997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3B1-C21E-4BE6-8FBD-32E56E3D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6D1-1603-40FA-AE30-5CC2A9DF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9E3-4DF1-482E-9F7A-57A2F5A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CB8-2799-4732-A059-F0C7CE14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9CF-B40E-4EA4-991A-90D36863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031-B1E4-46C2-B945-0B5230E0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56F-8047-4CF8-B808-7CE7F1A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FDC-2202-484D-83B4-F84D7E9C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C33-B477-42FD-98EC-01B47B1D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2920" cy="147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ime would you arrive in each city if you left Heathrow airport at 9:00 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205000"/>
          <a:ext cx="8351640" cy="3255840"/>
        </p:xfrm>
        <a:graphic>
          <a:graphicData uri="http://schemas.openxmlformats.org/drawingml/2006/table">
            <a:tbl>
              <a:tblPr/>
              <a:tblGrid>
                <a:gridCol w="1193760"/>
                <a:gridCol w="1192320"/>
                <a:gridCol w="1423800"/>
                <a:gridCol w="961920"/>
                <a:gridCol w="1308240"/>
                <a:gridCol w="1077840"/>
                <a:gridCol w="1193760"/>
              </a:tblGrid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.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gh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6:42Z</dcterms:created>
  <dc:creator>Teacher</dc:creator>
  <dc:description/>
  <dc:language>en-US</dc:language>
  <cp:lastModifiedBy>Teacher</cp:lastModifiedBy>
  <dcterms:modified xsi:type="dcterms:W3CDTF">2003-02-23T14:36:43Z</dcterms:modified>
  <cp:revision>2</cp:revision>
  <dc:subject/>
  <dc:title>What time would you arrive in each city if you left Heathrow airport at 9:00 am?</dc:title>
</cp:coreProperties>
</file>