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6DD-332C-4ED9-88A8-84D45464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E7C-E65C-4792-9AC8-51709514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C58-1309-4DF6-B9C7-9E2E2324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99F-0FEF-48CD-8B67-D9FE62F8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6C2-A321-448C-95A1-E6802F4F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35D-4B30-4A16-ABB9-18EEF4AC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01D-1CC6-4DDC-8AA7-06A36DA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50E-3535-4D22-B57C-A94BD22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B97-208B-4CDC-B16F-42F41E4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F8C-074A-4BB9-9F5A-D825D15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B3E-E169-4A3F-974D-4EEA1FD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FC0-0B92-4A30-931A-9D2E945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CDC3-2129-454B-BC0F-3D25006686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33:04Z</dcterms:modified>
  <cp:revision>2</cp:revision>
  <dc:subject/>
  <dc:title>PowerPoint Presentation</dc:title>
</cp:coreProperties>
</file>