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3B0-BCA0-416B-B8C6-C5E7F09A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189-1B77-4D62-9164-FECA11AD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283-7516-4086-9731-A71B6DFE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566-F852-4A3D-8506-7E51505D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60B-D1D5-4A80-B738-8E03FF62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42C-D549-47E3-9336-5BF6BCD9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829-C3DA-4513-9A7E-7CC438D6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52A-3AF6-474D-A681-373F53CA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C84-6A49-492E-A72E-2D3AD08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8CC-4D63-4ACE-BB64-84FCEF5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8A3-2592-4736-AB97-A1875EE7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77C-49BD-453F-8C3E-ED8747E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06ED-DE03-4E9C-A5EC-92522F4B95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Addition and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0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16002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38080"/>
            <a:ext cx="15242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838080"/>
            <a:ext cx="144792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838080"/>
            <a:ext cx="13716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subtracting,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838080"/>
            <a:ext cx="15238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8T12:16:52Z</dcterms:modified>
  <cp:revision>3</cp:revision>
  <dc:subject/>
  <dc:title>PowerPoint Presentation</dc:title>
</cp:coreProperties>
</file>