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AA4-7F88-42B6-8DDC-F6FC96A8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27B-5A2A-4A49-A724-DF0BABAD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600-BAA2-4BD6-9954-4A557AA7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3B8-5B73-4F4F-9949-69206AFA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325-E5CB-499E-AC2C-C34FCF4E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08D-0AD1-4F7E-AC79-C4A3BC4B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B0CF-D567-40A4-9BB2-552F5EAA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E3F-9037-4270-AFE3-FD9798CC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195-1768-47A0-B36E-9660F48A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99E-F5C8-4F82-B48E-186BD744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ADD-0D20-48E7-AA77-4848B840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DDB-DE30-431C-A259-E7A9D30D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6482-4875-464D-A96B-FA678DB605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Divisible by 3,9 or 18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914400" y="5791320"/>
            <a:ext cx="7620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ich numbers can only be divided by 3; by 3 and 9; or by 3,9 or 18? Lift the green cover to answer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8:11:12Z</dcterms:modified>
  <cp:revision>4</cp:revision>
  <dc:subject/>
  <dc:title>PowerPoint Presentation</dc:title>
</cp:coreProperties>
</file>