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861-1B26-4C8B-8039-375FEE4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E10-0033-402F-946F-B7C4273D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CBA-4069-4579-9EB9-B94274C0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2F5-4117-4EBE-8689-792C8048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8C0-F849-4123-8450-4E9C4FE7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92D-F5A2-4CBB-916F-475D51A9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1B7-0C0D-4D83-A6A9-19EFAD63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C5C-AC26-4284-8540-43528B9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E63-6D9F-4DC1-8F47-4C4B947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015-B278-46AC-A4C5-1C92239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053-2258-41A0-B618-D28A471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77E-E0EF-4533-A374-02C746D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7253-6F7B-414C-92D8-97E7A70F4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19920"/>
            <a:ext cx="84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you add to the number on the green box to make 1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6:45:11Z</dcterms:modified>
  <cp:revision>3</cp:revision>
  <dc:subject/>
  <dc:title>PowerPoint Presentation</dc:title>
</cp:coreProperties>
</file>