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C5F-04C1-48E6-8A36-D7316842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DD73-163E-4BDA-85AC-07CCE9AC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831-7BE6-4961-8300-DB08713B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EC8-08E2-4205-8889-8742BD1C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23E-3612-4542-A010-68FE4667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17B-6372-4FA1-88FA-C478CBCA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CD4-3FA3-490B-897B-BFBFB65A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DE6-AA81-467D-B311-7EFBFC4A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BC3-FD78-45C4-BC96-C04DDB98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6AB-373C-4440-8EA5-DFD6B99E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4B6-52E3-413D-993F-8F8C5F23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4B4-9F69-4493-8EED-37CF6B65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32E8-1110-4A10-AA5B-8FA7DE813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ultiplication and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397160"/>
          <a:ext cx="7924680" cy="4851000"/>
        </p:xfrm>
        <a:graphic>
          <a:graphicData uri="http://schemas.openxmlformats.org/drawingml/2006/table">
            <a:tbl>
              <a:tblPr/>
              <a:tblGrid>
                <a:gridCol w="1981440"/>
                <a:gridCol w="1980720"/>
                <a:gridCol w="1981080"/>
                <a:gridCol w="1981440"/>
              </a:tblGrid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X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X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X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19Z</dcterms:created>
  <dc:creator>ok</dc:creator>
  <dc:description/>
  <dc:language>en-US</dc:language>
  <cp:lastModifiedBy>ok</cp:lastModifiedBy>
  <dcterms:modified xsi:type="dcterms:W3CDTF">2003-08-27T15:27:32Z</dcterms:modified>
  <cp:revision>1</cp:revision>
  <dc:subject/>
  <dc:title>PowerPoint Presentation</dc:title>
</cp:coreProperties>
</file>