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3FE0-70CF-480D-8695-ACFF05CEA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CF2F-8B83-41A8-8DC5-F00DD5035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0C4E-86B7-4758-AD5B-316B93F6C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7FED-4813-46BF-A266-1E0EE5D5B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5E08-29E9-4C79-820D-C49DC8431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8687-2A81-4AB8-81E8-B50D0FF35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F7B4-29E0-4642-B7BC-F11671E01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EAAB-4D08-417C-B9D7-59BEBCCB4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3BFF-01F5-4400-A7E3-A0C184D20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3248-CE7E-4C88-B837-11A3B78E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8E9B-92A4-444C-98E0-5303F941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65DA-7D0C-4C4F-9DAB-47B95AFD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62CAB-9653-4EB4-B044-89759D513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60280"/>
            <a:ext cx="7993080" cy="58140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Fractions of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1341360"/>
            <a:ext cx="1944720" cy="64260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¼ of 168 eg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249228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42 eg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76720" y="134136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1/3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57 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76720" y="249228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9 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867280" y="249228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5 sh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867280" y="134136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1/8 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00 sh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335772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3/4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12 p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443700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84 p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335772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3/5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70 ap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443700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42 ap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35772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5/8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56 pea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867280" y="443700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35 pea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15772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7/9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72 pi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623736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56 pi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623736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48 chic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515772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3/7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12 chic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867280" y="5157720"/>
            <a:ext cx="1944720" cy="64260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4/11 of half of 176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867280" y="623736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6T21:23:13Z</dcterms:created>
  <dc:creator>Teacher</dc:creator>
  <dc:description/>
  <dc:language>en-US</dc:language>
  <cp:lastModifiedBy>Teacher</cp:lastModifiedBy>
  <dcterms:modified xsi:type="dcterms:W3CDTF">2003-03-27T20:00:19Z</dcterms:modified>
  <cp:revision>3</cp:revision>
  <dc:subject/>
  <dc:title>Slide 1</dc:title>
</cp:coreProperties>
</file>