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1EE-1656-4AED-9492-B951D8C0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464-A5D6-470E-80E8-A0915CC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0ED-93D3-4FB5-B473-300AACB1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245-7095-4293-A838-78E2B203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2D9-B2C9-4602-ADEE-B60A9C0E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3D2-E7D8-4DC2-9287-BD24278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0E6-CF9E-4AFF-8672-130554E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D20-D1F9-4471-8412-62FAA87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FA4-ACEF-4575-9CCE-BBAD1F6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4E9-050D-4621-86A8-7CEEC8F2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E07-5682-459F-BEE0-47D0A05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748-D106-41B6-A333-CAD0C9B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1D6A-6610-48C2-A38B-800BDE73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: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8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860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3860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93372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393372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60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0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s would lie behind the ratios if they were ratios for a bag of 60 red and white ba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0:39:07Z</dcterms:created>
  <dc:creator>Teacher</dc:creator>
  <dc:description/>
  <dc:language>en-US</dc:language>
  <cp:lastModifiedBy>Teacher</cp:lastModifiedBy>
  <dcterms:modified xsi:type="dcterms:W3CDTF">2003-02-07T21:56:41Z</dcterms:modified>
  <cp:revision>3</cp:revision>
  <dc:subject/>
  <dc:title>Slide 1</dc:title>
</cp:coreProperties>
</file>