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527-BC56-4921-9630-06DE4E0C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40B-083D-477B-A499-956FCC4D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19A-5E9F-43FC-9341-C2A11A7C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96B-CD19-4B5E-92C7-DCEB3761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9D2-7D5F-4B28-B3C6-EB8AEB06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F8A-CE8D-408B-9FDC-11793D4C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32A-3EBF-4A11-97E3-9CB39458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8B7-305A-4FFA-9E6D-EFD63D0B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740C-8B89-46B2-981F-CF09BFE2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1FF7-0413-4F73-B85A-30C7308B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E34-4C1B-412B-BEDE-3F08247C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BC1-2555-4618-B12C-6EBC5D06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8DCC-8ADC-4C69-91A9-7E9AD4230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126828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crate of beer has rows of beer that are 8 bottles wide and 6 bottles deep. If there are 13 rows in a crate, how many bottles are there in a c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3645000"/>
            <a:ext cx="720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crate of beer has rows of beer that are 7 bottles wide and 5 bottles deep. If there are 12 rows in a crate, how many bottles would be lest in a crate if you had delivered 257 bott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crate of beer weighs 210 kgs. If there 350 bottles on a crate, how much will one bottle weigh in gram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314172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crate of beer costs £75. If there are 5 rows that are 10 bottles wide and 5 bottles deep, how much will one bottle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22:07:54Z</dcterms:created>
  <dc:creator>Teacher</dc:creator>
  <dc:description/>
  <dc:language>en-US</dc:language>
  <cp:lastModifiedBy>Teacher</cp:lastModifiedBy>
  <dcterms:modified xsi:type="dcterms:W3CDTF">2003-03-21T09:39:08Z</dcterms:modified>
  <cp:revision>2</cp:revision>
  <dc:subject/>
  <dc:title>Slide 1</dc:title>
</cp:coreProperties>
</file>