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761-C8B6-429B-9FAB-0DBF8DE1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D5A-8459-4E44-9336-01556717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D43-AB0D-4153-9695-C4F90074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E3D-9BD6-4664-8457-0A0DFC84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E4B-CA56-4FE2-BD5A-79752738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DF3-CC39-4803-AE6F-B1385C99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4AA-689B-494B-8D44-AAB5E157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5AB-3DC6-4D35-B762-9A072539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5C2-7C0C-4896-A237-EF1FC8EB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979-6DC2-4C45-A27C-B8E27865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ABF-7D50-4A6C-A26F-50340282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393-7BE4-4AB0-ABF7-BA5704A7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0C22-0A2C-492C-A751-BC710CCD2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ng Numbers -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295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264 – 9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13716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3716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209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88 – 199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200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28 – 198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32767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114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693 – 298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1911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1911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029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776 – 397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51055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51055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51055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867280"/>
            <a:ext cx="84582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out what the missing digits are for these subtra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1295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62 – 19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6292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209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44 – 19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124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65 – 299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32004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2004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724 – 197 =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1148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41148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693 – 587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50292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50292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7:13:47Z</dcterms:created>
  <dc:creator>ok</dc:creator>
  <dc:description/>
  <dc:language>en-US</dc:language>
  <cp:lastModifiedBy>ok</cp:lastModifiedBy>
  <dcterms:modified xsi:type="dcterms:W3CDTF">2003-08-27T17:14:12Z</dcterms:modified>
  <cp:revision>1</cp:revision>
  <dc:subject/>
  <dc:title>PowerPoint Presentation</dc:title>
</cp:coreProperties>
</file>