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A37-013C-43A5-977B-0935E14D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AC2-A63E-4210-9C19-D5049D1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28F-595F-4EC7-9D97-2DA605F6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61C-24C4-4DF9-A8FE-33708A2E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6C1-60FB-4DC1-AB95-99A3FA79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CCE-0970-4FC7-9BFA-DAA253DB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C8F-1EFF-48EA-97EE-A6DC39F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6BB-8C6A-4895-B1E8-4A225F0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BDB-325F-4CFF-A918-E19E4F3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8B5-6F16-4FF0-AFF7-B32F372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519-96F5-4C51-BA77-2E2FF50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603-E5E3-4957-9603-028E7D3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A30-6569-41E6-B53F-B6EF184B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Multiplica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4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x 20 = 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x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x 20 = 1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x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9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multiplication and find the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5:36:24Z</dcterms:modified>
  <cp:revision>2</cp:revision>
  <dc:subject/>
  <dc:title>PowerPoint Presentation</dc:title>
</cp:coreProperties>
</file>