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FF6-BC82-4AD4-BFF0-67430745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23D-E786-40B8-8DEE-56B5953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1CD-AF5C-4BD2-A7BA-A5CE1E5F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82C-2A73-4084-9678-59B8FFEA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E12-509D-4F91-918B-11C3D8AF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FCF-29B4-439B-AB9D-E8C0FFD7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4CF-5E40-412E-9741-E5EB0874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D41-3AAF-4CEF-BCF6-08E7C733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A4F-E245-4C99-B1CF-A739C64C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52F-1488-4C4E-9E54-327925B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C1C-ADF4-4532-8CCA-DD484480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1AD-6E16-4426-8CE0-3C94D24B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0B74-C438-4FEC-B446-80ED90B0E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Finding halves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685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971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114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c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541008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b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685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1828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289548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o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962520"/>
            <a:ext cx="2666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o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5105520"/>
            <a:ext cx="2666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o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209680"/>
            <a:ext cx="2057400" cy="2531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umber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6:19:33Z</dcterms:modified>
  <cp:revision>1</cp:revision>
  <dc:subject/>
  <dc:title>PowerPoint Presentation</dc:title>
</cp:coreProperties>
</file>