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F18-D533-4DB2-9393-7DACB79A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51F-24A8-451B-9EE2-54240A5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92F-20E4-475E-822A-D9EDA4F8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5C6-C4A0-42C4-BE8B-7E06E150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8D2-758D-4C90-845E-BBD0C135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588-5D49-49BB-A84B-F4B1F61F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6CF-0E24-4C29-8C97-E0BE74D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DC5-68AE-4AEA-9F59-D502C90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A5F-5D5F-471E-B2EF-6933BAFA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3D8-0B42-4F7E-8E40-848BA27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E33-9F0A-418B-9C96-65F751BD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147-F77C-4EA8-8276-C30DFEE2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4CDD-4F40-4130-B9F7-0253A1AE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by 10 and then adding and subtrac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2 digit number, such as 20, and then adding or subtracting to reach the number. Example: 30 divided by 3 is 10, take away 4.6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13:32Z</dcterms:modified>
  <cp:revision>3</cp:revision>
  <dc:subject/>
  <dc:title>PowerPoint Presentation</dc:title>
</cp:coreProperties>
</file>