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9E7-410F-4596-A803-BA876175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0C5-81DB-48F5-829F-5B546A1B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187-6E0B-4072-A0CE-0FC8D1EA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D88-C467-4EF6-8E2B-DDBF235D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209-C6B5-4F06-9E8F-67F4EC00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DEB-B470-45D7-A2D9-167BC63F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BE4-1B4C-4B94-A5C3-01A3F61F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B64-7A1D-466E-9054-568443DB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665-8258-4A4C-BC7C-E95660D0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4F0-B21D-4ED7-8899-E9B5525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951-7286-4B86-A4CF-11F081C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5DB-98B1-4483-A7E7-08B88C7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B760-ECEC-407D-A1CF-D9C5DFCC1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id 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397160"/>
          <a:ext cx="7924320" cy="454608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each number by 8. Then divide it by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20:03Z</dcterms:modified>
  <cp:revision>1</cp:revision>
  <dc:subject/>
  <dc:title>PowerPoint Presentation</dc:title>
</cp:coreProperties>
</file>