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C0E-669C-4960-8949-2267E474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A7A-298D-4827-A1D9-0A32059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B4B-B519-4281-BE3B-DF26C3C5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4BE-8F18-475B-8BDB-4AA0C073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213-22C5-4197-9D14-839D5EDE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27A-DD1F-41C2-B052-D5560C0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651-C099-4D13-A07F-2CF19BC9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966-4010-4D31-8606-3D955593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566-FB00-4D35-BCE3-12B14B10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A91-358F-466F-B03C-516303C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644-542A-477B-97D8-085FAF30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AB6-972B-42B9-8228-05C4BCD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DFD-E960-49E4-B82B-6FBEF9D4B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25% 0f 486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82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50% of 213 or 30%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5% 0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12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oxes will be needed to put 768 eggs into packs of 1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half of 2/3 of 87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3 of 213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13:19:31Z</dcterms:modified>
  <cp:revision>3</cp:revision>
  <dc:subject/>
  <dc:title>Slide 1</dc:title>
</cp:coreProperties>
</file>