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D38-94E2-48C9-B4F4-122316D9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925-8C19-4E3E-BD7E-1C619A9F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8FC-D670-4B43-A89D-70FCD838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12B-15DE-4E66-8F67-2C3BF381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CA6-1B81-4DFE-9194-2877A4B4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1AB-E507-493F-B6CE-7F903694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B27-2C1E-4E57-9ED5-BD7B15B0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939-4540-4B5C-A5AE-C03D51D1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54B-E1B1-4FA0-B322-0D8F8EC1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3C4-6322-4469-B980-19DEF327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9AC-18E8-4F96-81BB-F786DF56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98E-CD1A-4FD8-95B8-28AB4F35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F736-E2D9-40FC-BAF5-66546B3AA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Me by Multiplying and then adding and sub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514600"/>
          <a:ext cx="6095880" cy="3819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8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a way of making each target number by dividing a two digit number by a one digit number and then adding or subtracting  to reach the number. Example: 40 divided by 5 is 8, plus 5 equal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8T14:51:24Z</dcterms:modified>
  <cp:revision>6</cp:revision>
  <dc:subject/>
  <dc:title>PowerPoint Presentation</dc:title>
</cp:coreProperties>
</file>