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737-E9B1-4FBC-AF74-4D29E654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A0F-06B4-48FB-AF22-C56313F4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D4A-660D-43FF-95E8-880FB5CB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0F4-CD5D-4381-9348-75048310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FA2-1A4E-4C83-8B47-75DC2A76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15C-9A15-405C-874B-B2F93504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05E-57B5-4D10-825C-F741CB5F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0EE-B021-4D1D-8B9C-2F9D95A1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FAA-8A5F-44E7-AB72-A6D8CC47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58E-A8E5-4248-8328-0965B477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1E8-F66B-40E3-8085-F1135DC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462-B8E3-4BE7-BE65-D69BD87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3C9-3F36-4F1F-B57C-D01EDE7DF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ixed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eighth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911920"/>
            <a:ext cx="7620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is the answer below the question, either as an eighth or a quar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20:06:03Z</dcterms:modified>
  <cp:revision>4</cp:revision>
  <dc:subject/>
  <dc:title>PowerPoint Presentation</dc:title>
</cp:coreProperties>
</file>