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CC9-1EE0-4EC7-995F-046EA07C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F32-F7F2-456D-848B-55FFEB81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1CE2-0F70-4B38-9866-0A6DCB05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135-5DF3-46EB-B684-FFDF44B3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0F8-8587-4027-A92A-8419A395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863-B92A-4080-BBFE-A119E543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598A-E537-4BCD-A036-29735A43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2C5-6EFC-4DB0-AD72-163F603F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CEA-3795-4DF1-8C2F-DCBC0A39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C1A-0875-412C-AFA7-A3482393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235-6577-480E-B48B-6DB8CB42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5EE-C754-4D88-A73E-0BE74E08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1927-962F-470E-B7D1-BDF14875D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8487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Wrong -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44792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2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6 =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28600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72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9 =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20040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8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6 =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11480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2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7 =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95288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96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4 =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1523880"/>
            <a:ext cx="2438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66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6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236232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35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7 =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320040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64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8 =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411480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4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8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487692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87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3 =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Find the correct answers for these divisions, showing how you found the answer for each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9:46:19Z</dcterms:created>
  <dc:creator>ok</dc:creator>
  <dc:description/>
  <dc:language>en-US</dc:language>
  <cp:lastModifiedBy>ok</cp:lastModifiedBy>
  <dcterms:modified xsi:type="dcterms:W3CDTF">2003-08-27T19:46:40Z</dcterms:modified>
  <cp:revision>1</cp:revision>
  <dc:subject/>
  <dc:title>PowerPoint Presentation</dc:title>
</cp:coreProperties>
</file>