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413-3625-4E10-BB2D-3E659900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CFA-F906-4910-9EBA-B98A8CA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F18-9789-4882-8C23-385DD55C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9C2-BF11-49A8-9779-4E650320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03B-9B69-469F-826E-942411F4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CA5-D1EB-4CB1-9829-A44AC3E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22A-8CB1-462F-80E9-DA3ABD29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B48-DD51-47FB-9E04-FCEB051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B2B-1631-48D9-BC25-0DEECC4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352-F3D0-4437-9F29-4226D55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086-2A0A-4976-85C9-445FD9B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85B-25A7-4079-AB17-75315C3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D8C-7336-4A54-9CA2-3372F847B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ck Stone says – ‘Let’s work on Mixed Fractions, Year 6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144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        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    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99072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990720"/>
            <a:ext cx="152424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590920"/>
            <a:ext cx="1600200" cy="173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0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         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1:54:36Z</dcterms:created>
  <dc:creator>ok</dc:creator>
  <dc:description/>
  <dc:language>en-US</dc:language>
  <cp:lastModifiedBy>ok</cp:lastModifiedBy>
  <dcterms:modified xsi:type="dcterms:W3CDTF">2003-08-28T12:03:18Z</dcterms:modified>
  <cp:revision>1</cp:revision>
  <dc:subject/>
  <dc:title>PowerPoint Presentation</dc:title>
</cp:coreProperties>
</file>