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96E-1B35-4D81-8677-F38F7FF0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B0C-E6ED-42B5-A4A4-AD521F73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88E-0146-4DBB-A89F-8EDBEAB1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4EC-3589-4398-8A09-5912CF95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8DD-6B10-4844-AAA0-FCDC55D5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5BC-1747-46C8-A622-8EBE1632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EE3-8DC9-468F-ACD1-63C6D15E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AB1-A5B9-46C5-942C-05B30B1B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57F-4B0E-42F2-96BC-E4990A75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D06-900F-4D7F-875E-DD39405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AB6-5A22-41AB-A911-7872FFCE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D58-0006-48C6-A1BA-8568FA63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7669-BEDF-4F8B-9B61-EE83F27819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Addition of negativ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5468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8,2,14,4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e a number line to help you find the answers to these additions, then lift the top card to check your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+ -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1066680"/>
            <a:ext cx="1600200" cy="228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9 + -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 + 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352680"/>
            <a:ext cx="1600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+ 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+ 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8 +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0 +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6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13 +7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5:00:41Z</dcterms:modified>
  <cp:revision>7</cp:revision>
  <dc:subject/>
  <dc:title>PowerPoint Presentation</dc:title>
</cp:coreProperties>
</file>