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16A-CEC6-489B-80D3-567E351D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35EA-D464-47F4-B9F8-6050C23F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FFC-A2C3-45B9-B8D6-E03ECF0F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AF0F-B868-412F-817B-F1DB3AE5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389-8E80-47A4-9164-B6AA26F6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AA9-8C2E-423F-89DA-615887DE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599-E35E-4E31-B2AD-44796F28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2F7-CD2A-4DE5-A094-F6E236A1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036D-B5BD-4C4B-A2C8-1E545E40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3C4-5202-4821-80B9-7FD6BA2C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870-B531-4358-A24B-07F7C8B9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628-58D9-428D-BD6C-17D4433A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4773-AF3E-4394-87FC-077934FAF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1052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e = 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1916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ef =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1052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f =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48360" y="1844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d=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c =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2781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eo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3716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ec =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9640" y="364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io =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4508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b =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9272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ho = 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18900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558972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out what number each letter repres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22:01:46Z</dcterms:created>
  <dc:creator>Teacher</dc:creator>
  <dc:description/>
  <dc:language>en-US</dc:language>
  <cp:lastModifiedBy>Teacher</cp:lastModifiedBy>
  <dcterms:modified xsi:type="dcterms:W3CDTF">2003-03-03T22:02:21Z</dcterms:modified>
  <cp:revision>2</cp:revision>
  <dc:subject/>
  <dc:title>Slide 1</dc:title>
</cp:coreProperties>
</file>