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00F4-03E5-435D-B888-C65FAFFE2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7AAA-78EB-4EA4-8040-B2982846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F422-94D5-4110-B6E6-F789F8BF4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9A83-59CF-47DF-8117-491AA7C2A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B4EC-7332-4981-B979-C8C2C803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AEE4-66E7-401C-80AE-DF0D9478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B7AA-0B2C-47E0-B4D9-6B199106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E165-E62C-47CB-8BF2-7F506A39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7567-6636-4405-8A1C-963E7172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80FC-1AF9-4E29-A1A0-32DCF351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95DE-856A-411E-BB23-83E846D4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1AD5-F64B-4255-A79C-64BBB55D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69C0-860B-4EF5-8516-8BDC3C889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260280"/>
            <a:ext cx="69850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sing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148428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1484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270828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3141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386064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4292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508464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11280" y="5084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92720" y="141300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04000" y="1413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64000" y="263700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77080" y="2708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64000" y="386064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64000" y="429264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64000" y="508464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92720" y="515772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9:38:12Z</dcterms:created>
  <dc:creator>Teacher</dc:creator>
  <dc:description/>
  <dc:language>en-US</dc:language>
  <cp:lastModifiedBy>Teacher</cp:lastModifiedBy>
  <dcterms:modified xsi:type="dcterms:W3CDTF">2003-03-25T19:58:37Z</dcterms:modified>
  <cp:revision>2</cp:revision>
  <dc:subject/>
  <dc:title>Slide 1</dc:title>
</cp:coreProperties>
</file>