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21C3-AD1C-4735-BA5B-C4F5B6C9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A2F2-B736-4138-847A-236272AD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834-703E-42A5-98A9-E4A42A76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B21E-049A-42A0-B882-A1F48E26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8229-DE79-40A6-8215-1C793AA7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12A9-A937-4C28-BAA6-7E079FE0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DC1-E28C-4E52-9B05-C9CA9F0D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B5F-47CF-46A9-B29A-ADA55922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2EDB-E871-4E71-BE96-DA365E66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62A-F265-4BE3-9FAD-D1464FF4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CAB-5BFD-4795-A9CA-CFBAEC55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9481-D0B5-40C1-BAF5-0261AD2E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7B42-6FE0-4E54-8942-30C29A3B3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60280"/>
            <a:ext cx="7993080" cy="5814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raction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341360"/>
            <a:ext cx="1944720" cy="6426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¼ of 168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2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3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7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9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5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8 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0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4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12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4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5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0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2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5/8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6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5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7/9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2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6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8 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7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12 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5157720"/>
            <a:ext cx="1944720" cy="6426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4/11 of half of 17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21:23:13Z</dcterms:created>
  <dc:creator>Teacher</dc:creator>
  <dc:description/>
  <dc:language>en-US</dc:language>
  <cp:lastModifiedBy>teacher</cp:lastModifiedBy>
  <dcterms:modified xsi:type="dcterms:W3CDTF">2003-06-24T15:32:14Z</dcterms:modified>
  <cp:revision>3</cp:revision>
  <dc:subject/>
  <dc:title>Slide 1</dc:title>
</cp:coreProperties>
</file>