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CF9-9196-42B9-9D30-F10CADE3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BE7-77DE-4F7C-9C7B-A4004DEC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935-F85E-4B12-A398-2CAB01CB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491-297E-4446-BC39-A1D5C4D0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557-DB41-4290-AE93-BAAC3CAB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F98-E9D1-426E-91C5-896A11A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7BF-9336-4C89-9273-1B7FD47E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E66-E17F-4BA2-9853-3C67AF8F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B92-2ABB-4825-BB14-FC942AB0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B5F-A23B-4617-A87C-BEFB68FF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0BF-3FCE-436F-B310-C70C530A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952-0EE1-4E19-85B9-85A9CFA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582-D8A0-4E90-A745-CB0741B2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450864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43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112536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89000"/>
            <a:ext cx="6048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3:46Z</dcterms:created>
  <dc:creator>Teacher</dc:creator>
  <dc:description/>
  <dc:language>en-US</dc:language>
  <cp:lastModifiedBy>Teacher</cp:lastModifiedBy>
  <dcterms:modified xsi:type="dcterms:W3CDTF">2003-03-25T19:35:14Z</dcterms:modified>
  <cp:revision>1</cp:revision>
  <dc:subject/>
  <dc:title>Slide 1</dc:title>
</cp:coreProperties>
</file>