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106F-4B86-474F-94B8-5B9B34296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D736-A575-4737-9343-1FEE6810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2672-F074-4943-A7C5-3C7DD27B7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5D42-037A-4E7D-BB93-E791D8E1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7270-70EC-4053-9C95-AEFDA6BF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9B3F-8EF8-49D5-9690-C00A8366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C407-38AC-4A1B-BF00-64C9BFCF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6383-5105-42E0-BDF7-1B329D35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1B39-4E20-4CC7-82E0-CA78593E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B59B-07C2-44E7-BE8F-172937F2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B651-B629-42EF-B85C-E7CFE6CB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44FC-6681-432C-9DBB-B5EEEF4C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9A7E-824B-4BE1-9D3A-BDB9C28471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8600" y="0"/>
            <a:ext cx="9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plying and then adding and subtra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447920" y="2514600"/>
          <a:ext cx="6095880" cy="381924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8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0" y="990720"/>
            <a:ext cx="9144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a way of making each target number by multiplying a number and then adding or subtracting  a numbe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ess th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25 to reach the number. Example: 40 multiplied by 5 is 200, take away 7 equals 1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4:50:12Z</dcterms:created>
  <dc:creator>ok</dc:creator>
  <dc:description/>
  <dc:language>en-US</dc:language>
  <cp:lastModifiedBy>ok</cp:lastModifiedBy>
  <dcterms:modified xsi:type="dcterms:W3CDTF">2003-08-27T18:45:19Z</dcterms:modified>
  <cp:revision>5</cp:revision>
  <dc:subject/>
  <dc:title>PowerPoint Presentation</dc:title>
</cp:coreProperties>
</file>