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67C-8415-4B7E-A197-62725B7E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173-D6D2-48A9-894F-378631A8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0C0-6F92-4522-B1F0-B9323B7D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D3F-20E0-448F-A95B-28AC7B37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114-9FE4-4752-A1A4-3EED30E7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C65-FABA-4ED8-884B-FAA0B5F4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7AA-D6E7-499E-9480-3B768C6A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AA5-17B7-4179-B90B-701E23B5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6B5-9902-4029-8C70-9FDD2673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343-9409-4574-8C02-0C9D0C6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97F-6D4B-4F77-A1F1-129DF82C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536-2720-465A-8191-AF205708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E65C-F3A4-4181-A2A4-895D61EE7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d all the correct answers on the RIGHT when dividing the numbers on the LEFT by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84464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844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781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781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789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3789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72428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72428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73408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573408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1773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67640" y="2637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2637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364500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3645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96360" y="4581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4508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7640" y="5516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5516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8:24:35Z</dcterms:created>
  <dc:creator>Teacher</dc:creator>
  <dc:description/>
  <dc:language>en-US</dc:language>
  <cp:lastModifiedBy>Teacher</cp:lastModifiedBy>
  <dcterms:modified xsi:type="dcterms:W3CDTF">2003-03-05T08:29:18Z</dcterms:modified>
  <cp:revision>2</cp:revision>
  <dc:subject/>
  <dc:title>Slide 1</dc:title>
</cp:coreProperties>
</file>