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EE2-B912-447E-9F42-93ABF2FD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93D-AF64-4F24-9DEE-82A4715F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870-41F8-433C-95FE-05B40299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B63-74AF-48CB-A795-2FD92FA3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AC4-7074-48FD-A0A3-18A4A5D4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2C0-2F09-42E7-91AD-401C3A90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945-27D6-41FA-A110-1BD2F5DF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0DE-05F7-4FBB-B3CB-B5F28441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04E-B7B2-4687-A331-1C51545C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ADC-B02D-47DD-AB1E-9D31FEC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C98-DE26-4412-990D-26FAEA7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35F-3282-4A11-839B-0D8A6F2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5BCC-D5F2-4FFD-960F-27546666D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rs each use a different amount of petrol. On average a car drives 160 km a week and the petrol it uses costs 80p per li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A : 30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B: 28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C: 25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29264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8km is equal to 5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litres is equal to 2 ga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5897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each car cost to run for one week? How much does it cost for one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06:48Z</dcterms:created>
  <dc:creator>Teacher</dc:creator>
  <dc:description/>
  <dc:language>en-US</dc:language>
  <cp:lastModifiedBy>Teacher</cp:lastModifiedBy>
  <dcterms:modified xsi:type="dcterms:W3CDTF">2003-02-23T14:06:57Z</dcterms:modified>
  <cp:revision>1</cp:revision>
  <dc:subject/>
  <dc:title>Three cars each use a different amount of petrol. On average a car drives 160 km a week and the petrol it uses costs 80p per litre. </dc:title>
</cp:coreProperties>
</file>