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E75-A15E-4A45-829F-C8BE4C5E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484-F8B4-448F-BBD1-708A159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39C-D997-4ACA-9EAE-0649F535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0E3-10D3-4347-B94D-4618AEE0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F15-AD0F-4AD1-8850-6A53C3A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DBE-AAEA-449C-95AE-C8A7EF9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C7E-B262-4DCD-A45F-ACBE889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E0F-9E63-4FDC-8987-1272C4C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CDC-A3E2-46B6-93B0-D58DC3DC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31A-8F09-4EBC-BFB0-298F3CD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6FE-D65D-4503-AD95-F060948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802-EEBB-4EEB-9482-221FF62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100-D11F-453E-BC45-53EBF95D8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116000" y="333360"/>
            <a:ext cx="7343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hat number do you need to add to get …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13372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85264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50028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221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869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213372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85264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350028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221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869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53:00Z</dcterms:created>
  <dc:creator>Teacher</dc:creator>
  <dc:description/>
  <dc:language>en-US</dc:language>
  <cp:lastModifiedBy>Teacher</cp:lastModifiedBy>
  <dcterms:modified xsi:type="dcterms:W3CDTF">2003-02-09T20:56:23Z</dcterms:modified>
  <cp:revision>2</cp:revision>
  <dc:subject/>
  <dc:title>Slide 1</dc:title>
</cp:coreProperties>
</file>