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A62-F63A-48B3-A36C-606C15A6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CEF-EE01-429E-B108-4922B4A0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E34-5A08-4B6E-A873-9177D755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922-EF9F-4A19-9F68-259181C5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FD9-DCB3-4003-A7DA-CB44379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199-AD7B-4B5A-A9D6-0D41A4E2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913-C1DE-4026-B6AB-01125488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A99-D932-4555-BCBE-2985C15D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4AD-675F-4F24-8C92-94C968F8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8FF-EAD0-4980-B1A4-71D72D23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DF3-C425-4AF7-AF17-69A4313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440-AA68-4967-AACF-652C390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EA04-51CE-48D8-A4B6-95A38E2C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991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Wrong – Addition of positive and negativ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6 + 7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orrect answers for these additions, using a number line to help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2 + - 3 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 + 10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01 + -25 = 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8 + 64 = 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1 + - 15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8 + -16 = 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9 + -17 = 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30 + 16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 + -38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5:09:16Z</dcterms:modified>
  <cp:revision>3</cp:revision>
  <dc:subject/>
  <dc:title>PowerPoint Presentation</dc:title>
</cp:coreProperties>
</file>