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1AC-5CE1-4BAE-B3AC-6D73AD67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8BF-C40B-4235-AF7F-417E433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45B-B34F-49BD-9B3F-02022376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ACD-9082-4333-B655-6EB3B0E8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EDD-987B-4648-8CCD-71D1F49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C19-648D-4929-BE16-D506A036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19-2964-4C71-9B97-47972373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FDE-6A39-4941-B215-0F63833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3DD-51A4-4613-B51B-550B7DDA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3F7-0CA3-460C-96A6-4E9F7DA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2AD-0AAB-4FE1-A690-A0E8B60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64D-C3D5-4E38-8170-96BAD57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5529-0CA7-479A-B5CD-2E99B4664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Factor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78008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32, 2, 16, 4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40, 2, 20, 4, 10, 5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8, 2, 9, 3, 6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00, 2,50, 4, 25, 5, 20,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,5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5,5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8,2,34,4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all the factors of the numbers on the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47:18Z</dcterms:modified>
  <cp:revision>6</cp:revision>
  <dc:subject/>
  <dc:title>PowerPoint Presentation</dc:title>
</cp:coreProperties>
</file>