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472-CDDF-4159-B1CC-2FEFF572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789-F31B-4660-AE15-8CE56343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E71-A1AB-4AA5-A11F-973FA86B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4E9-F269-4E19-94CA-C5538C1F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DBF-F4C3-4E31-93B8-AB5B9BB4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AFC-E053-430F-A069-EC95ABE7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6F4-8030-4D53-9104-71CDAFED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C14-A96E-4DD4-9442-2ACC8B0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2D9-CA5B-49E6-8843-14011805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BC1-39A4-4C7E-A42D-D933B68D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EF2-0803-40F5-9181-D0E2C29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03B-B1AE-4367-A7E3-E8C6652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2CD-D8BE-470A-A62F-E7256E334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All Wrong – Addition</a:t>
            </a:r>
            <a:r>
              <a:rPr b="1" i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371600"/>
          <a:ext cx="8229600" cy="391464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+ 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+ 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 + 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+ 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+ 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+ 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+ 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09480" y="5715000"/>
            <a:ext cx="81536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k out and explain what is wrong with each addition to 100 and find the correct answers. What needs to be added to the red numbers to mak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58Z</dcterms:created>
  <dc:creator>ok</dc:creator>
  <dc:description/>
  <dc:language>en-US</dc:language>
  <cp:lastModifiedBy>ok</cp:lastModifiedBy>
  <dcterms:modified xsi:type="dcterms:W3CDTF">2003-08-27T17:01:27Z</dcterms:modified>
  <cp:revision>3</cp:revision>
  <dc:subject/>
  <dc:title>PowerPoint Presentation</dc:title>
</cp:coreProperties>
</file>