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3DE-C153-4C9A-ADCF-184111CD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CDA-1746-4EAB-AFA3-784015D9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225-5917-4287-8501-73DC7933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29B-EEDA-4EB6-A97B-5B2B0C54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059-484C-4985-8FA2-2F30EAAD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F9A-EB64-42A2-8BC9-A0A8D0DA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277-FB84-4736-B442-BBEE854D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815-D8C4-4030-9A27-08232EC7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EE1-1866-4FC8-B20B-26C420B5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BDF-9C37-41AA-B37D-872CC8FD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DEC-08E5-4429-9D31-81ABADB7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7CE-D9C8-4C72-A65F-B2713CD5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94D2-26CF-4BC0-9FF4-B7D059A411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is the answer below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4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9:53:36Z</dcterms:modified>
  <cp:revision>3</cp:revision>
  <dc:subject/>
  <dc:title>PowerPoint Presentation</dc:title>
</cp:coreProperties>
</file>