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065-E752-43E7-AFFE-13FEB21F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7B0-C7BA-4637-9DD3-9FD8CF2D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528-B02A-4568-B0D5-93467B3D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F5A-0D07-4AD7-8321-BCD217EF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BB9-DA76-4612-9F7B-7DD50A52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B8A-1D35-4125-88B7-3E6DB94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089-4496-4750-9F00-2A602C80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46E-D535-4881-8770-24AE151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E57-4FF0-4638-843F-49186C1B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BF6-6543-4CEA-8ED0-EB64718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C98-8550-44AF-AD38-9F4DCA0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731-2D71-458A-A7A3-30DCBF3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571-CD8A-4C9F-97A2-1411DFBA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;18;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;24;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;9;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 ; 56;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7; 42;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0 ; 70;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4; 42;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0 ; 64;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; 40;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0 ; 63;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; 49;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0; 24;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10 ; 56;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9 ; 121;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; 44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3-27T19:48:20Z</dcterms:modified>
  <cp:revision>2</cp:revision>
  <dc:subject/>
  <dc:title>Slide 1</dc:title>
</cp:coreProperties>
</file>