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7F8-E115-4720-BF7F-6478BD37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841-796C-4705-B11D-8D9E8C8F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21B-6C6A-4690-A8EA-64BC2E4D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1C8-473E-4F07-8B30-69A55083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57D-E193-4849-A88A-CC4D2E45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89E-67D3-4A63-8295-9DF649C6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125-DBB3-40C6-A848-3442F1D1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DF9-2BD4-4DF1-959A-E9E7F9F0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CD8-9E94-4AEA-86A8-A62BC060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E98-8374-40D5-BE44-E40AEADD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BCF-396F-4F64-A2C8-569F737A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E4D-18FC-47AD-8AC5-8F655E63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969D-8CF8-47F6-A4A3-1B58044B7F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Adding multiples of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14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o + go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800600"/>
            <a:ext cx="4876920" cy="1810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number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e – o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o + gg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124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 + if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990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co + fh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962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go + igo = f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057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go + hgo = g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124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o + ego = d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886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o + ca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7T16:54:27Z</dcterms:modified>
  <cp:revision>2</cp:revision>
  <dc:subject/>
  <dc:title>PowerPoint Presentation</dc:title>
</cp:coreProperties>
</file>