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D58-09A8-4C11-8C8A-9DD7A8C6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CD9-2D3E-4CF3-8E80-7C0FC4AC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715-529A-4092-B6A5-2B0EA2D4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114-1E9D-407C-8358-E8616C6F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A1B-76A4-49B3-9509-2C60A116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0AD-2F0E-47B2-9681-9086DB8E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A9A-2089-489E-897F-2056EE42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A80-C6D5-4F04-AB97-4C770A51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9D2-F2B1-4EB4-8904-DD33B6BF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39C-5ED8-43AB-A664-236561C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26A-0865-4F87-9ADA-22C29400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68E-E278-4472-9044-F470F064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F6D9-3D1E-4A82-83CD-0158C9457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16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 curtain factory orders 2.5km of ribbon. They get a discount of 10% for a bulk order. How much do they pay for th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£110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£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£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£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you make a similar word problem of your own that uses metric lengths or weights and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35:28Z</dcterms:created>
  <dc:creator>Teacher</dc:creator>
  <dc:description/>
  <dc:language>en-US</dc:language>
  <cp:lastModifiedBy>Teacher</cp:lastModifiedBy>
  <dcterms:modified xsi:type="dcterms:W3CDTF">2003-02-23T14:35:36Z</dcterms:modified>
  <cp:revision>1</cp:revision>
  <dc:subject/>
  <dc:title>A  curtain factory orders 2.5km of ribbon. They get a discount of 10% for a bulk order. How much do they pay for the order?</dc:title>
</cp:coreProperties>
</file>