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3E1-8442-473D-B874-930E04BD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0B2-DC04-436F-BACC-D68193A0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1CA-0488-4883-BE87-78EB04B0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04EE-D6D0-46A1-8468-E10EADCD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FC10-BDD0-4470-9E44-B80460BF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90C-9E3C-4454-9E89-F621930C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90F4-9EC2-4FE6-81E6-7D647AD8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66C-1F4B-4980-925F-85C17762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C53-18C1-4A78-8FD7-2FFE5C1F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038-4BC9-4439-B43C-6EC80F70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AB8-17A8-4205-B84A-91C3B86D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2FC-0EEB-4CBB-B2CC-5017E3BD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ECEB-9A9B-47E8-8A9F-7AEA0BB1D3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6019920"/>
            <a:ext cx="7620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at is the answer below the ques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 x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x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x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 x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x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x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x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x 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x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x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5:47:45Z</dcterms:modified>
  <cp:revision>2</cp:revision>
  <dc:subject/>
  <dc:title>PowerPoint Presentation</dc:title>
</cp:coreProperties>
</file>