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3E3-8524-41CD-AB53-A177ADA5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422-AA91-4B72-B0EF-2F056E60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42F-85CC-4605-9C47-39933BA0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54C-F7A9-4F58-89F2-9B75F3CA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002-F83E-44C5-9E14-57BD5CAE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773-282B-4687-822A-FBC5C5E6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5EC-F5D3-4CE6-B30E-E2735EB1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6D7-F56F-4242-801B-A64F7B38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049-7EB8-493C-99C9-364AAAD1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275-9CED-45B7-AE5F-1DA4D2EE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B01-90DF-48EF-9CF8-997ABAA9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025-EA50-4E68-B05D-E6783D21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EC4D-6065-4BE7-B5B0-846200E423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Multiplication to 10 x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14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b + c.a = 6.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334120"/>
            <a:ext cx="8076960" cy="132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git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e – o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c + d.d 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124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b + o.e =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90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d  + o.c 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962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.e + a.c = d.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057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.i + e.f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3124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.g + o.a = 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8T14:35:37Z</dcterms:modified>
  <cp:revision>4</cp:revision>
  <dc:subject/>
  <dc:title>PowerPoint Presentation</dc:title>
</cp:coreProperties>
</file>