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5CB9-5FAB-49B2-A72E-53EB591FA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D7FD-E30B-4181-870B-41ED55BBB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73D0-966C-4E97-926D-17EB489B8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29CD-9125-4991-8936-46E63A590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7F31-E5D9-4DB1-8262-E57C99B18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BFCE-607E-40F8-AA01-D2BD89EBF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5050-180C-4CCC-9376-10203532D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3952-1E8D-4D36-98E0-13E9ED092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DE10-18D5-457E-B15A-C3EE5EDF5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575A-3F94-4920-8C61-CB82C6560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C599-B187-45A5-9913-3B757E7EC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F9CA-00EA-4882-8D3A-F9B8E846E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9434E-DC85-4696-87EE-863EE986050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22860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des – Multiplication to 10 x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90720" y="121932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91440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e x h = 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5334120"/>
            <a:ext cx="8076960" cy="13230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digit does each letter represe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ue – o i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ze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05740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 x f = h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312408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 x a = e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867280" y="99072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g x h = e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396252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 x c = f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791320" y="20574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 x i = 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867280" y="3124080"/>
            <a:ext cx="312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 x c = a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791320" y="38862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 x d = 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438280" y="457200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x c = b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7T16:19:20Z</dcterms:created>
  <dc:creator>ok</dc:creator>
  <dc:description/>
  <dc:language>en-US</dc:language>
  <cp:lastModifiedBy>ok</cp:lastModifiedBy>
  <dcterms:modified xsi:type="dcterms:W3CDTF">2003-08-27T19:34:44Z</dcterms:modified>
  <cp:revision>3</cp:revision>
  <dc:subject/>
  <dc:title>PowerPoint Presentation</dc:title>
</cp:coreProperties>
</file>