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9A7-69C8-42E2-A99B-5596248D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D78-0782-49EC-881C-7BEFA2C8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75A-CD05-4F58-91C1-7C03933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50C-CA34-4414-B77A-59F9194A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0D3-ECE6-4F24-B443-73D1CB0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27C-9199-4EA8-8458-6A5B48C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04D-3B29-4982-9C41-4310D08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5FE-5366-4487-A786-C47255F7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B6B-388A-4FEF-BB93-5B55502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C64-069A-4CD7-B24C-25668C1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55E-E059-4232-8674-5F5ECD7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97D-095E-4982-929D-DA5E71F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C9C-ACB0-4DA2-A448-2C863C07EC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 the Box -  Fractions and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the equivalent fractions below the decim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2:14:10Z</dcterms:modified>
  <cp:revision>3</cp:revision>
  <dc:subject/>
  <dc:title>PowerPoint Presentation</dc:title>
</cp:coreProperties>
</file>