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878-A203-4F37-88D8-CA51867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25B-CCC2-4F6F-9FAC-09385F99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960-E5F1-4D5D-B153-27677C9E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65B-9284-4D6D-BC14-217897C6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585-57D4-4A8B-851D-4EEC4BFE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C16-CC80-4FA5-887D-41BF9CD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DC9-AE38-4A55-84CE-78A27F9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0FB-CAC1-44F5-9439-2892A19F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C3D-9A24-419C-996C-2B204EF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8C2-15C1-4187-9BC0-821DC75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FF4-9868-4F96-B38F-2310338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977-2BAC-47EC-B99B-343C093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A99-5617-477F-AB82-FDD9BF76D5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Times New Roman"/>
              </a:rPr>
              <a:t>613 x 2 =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57 x 3  =  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2860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8 x 2  = 7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15 x 3 = 1      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922 x 2 =  1     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055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multipl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837 x 3  = 26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561 x 2 =          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98 x 3 = 1      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2004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13 x 2 = 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09 x 3 = 2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0292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8:41:48Z</dcterms:modified>
  <cp:revision>2</cp:revision>
  <dc:subject/>
  <dc:title>PowerPoint Presentation</dc:title>
</cp:coreProperties>
</file>