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2122-B401-4B75-89F0-A8A4B055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19D1-75F1-4003-8777-0B250A8D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9755-FFC4-40AE-B950-06CA6C08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A056-A0A2-40D9-B690-891A2028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5F1F-D040-493B-9978-780C687E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9A2-B7A0-4FC0-B186-F6E8682F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588-FCB0-42D3-997D-A4959B20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08E0-BC3B-4C7E-BAEE-5991985F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B9F2-D27E-499F-9220-0662CC88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6D6C-A6AB-46F3-B93F-C1389FA3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4F13-4EE8-45E8-BD69-DDE10A04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7F16-3BD2-4ED5-9575-CFC295DB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271E-0827-4EDE-87B8-26A918166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98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21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16360" y="981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9810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360" y="907920"/>
            <a:ext cx="935280" cy="505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844640"/>
            <a:ext cx="935280" cy="504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9640" y="19162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1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3280" y="1916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2708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844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2781360"/>
            <a:ext cx="934920" cy="504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2708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278136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.08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48000" y="4005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21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00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860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4005360"/>
            <a:ext cx="935280" cy="504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4941720"/>
            <a:ext cx="934920" cy="505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4941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4869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4941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44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189000"/>
            <a:ext cx="734544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Arial"/>
              </a:rPr>
              <a:t>Round 2 place decimal numbers to the nearest whol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27280" y="98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268360" y="18432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43280" y="2781360"/>
            <a:ext cx="2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0000" y="40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4941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21:08:05Z</dcterms:created>
  <dc:creator>Teacher</dc:creator>
  <dc:description/>
  <dc:language>en-US</dc:language>
  <cp:lastModifiedBy>Teacher</cp:lastModifiedBy>
  <dcterms:modified xsi:type="dcterms:W3CDTF">2003-02-12T09:14:18Z</dcterms:modified>
  <cp:revision>3</cp:revision>
  <dc:subject/>
  <dc:title>Slide 1</dc:title>
</cp:coreProperties>
</file>