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2D79-97FA-46C7-9D57-BE3DAA69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32F5-8DDD-4207-9D23-B9D488B5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2FA-82E0-49A8-BDB0-97579ED8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530-0A90-49EA-90DE-481857C8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F15-5613-4886-BF33-2B27C2AD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256-8915-4A15-A9D4-992F6940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D23-7F4A-4832-A466-9548BEAC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9EF-4178-49A5-BDC0-9DFF1902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082-4016-4B18-A30C-1E8F77E6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608-E284-49DC-BE8C-9E58E094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FC7-BAF6-4A5D-B899-5E5F890C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FC1-4BD2-4D0B-9ECE-6AF59370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F0EF-14EE-41A0-9F83-450C6E7222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Common Mult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914400" y="5791320"/>
            <a:ext cx="7620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is th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mon multiple, other than 1, for these two numbers? Lift the green cover to answer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and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and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 and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 and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and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and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and 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 and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and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and 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7:42:10Z</dcterms:modified>
  <cp:revision>3</cp:revision>
  <dc:subject/>
  <dc:title>PowerPoint Presentation</dc:title>
</cp:coreProperties>
</file>