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6834-2417-4EFF-AEE1-ED5FA72F8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BFE2-4C74-480D-9CCC-31BC3F3C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FDD9-8772-455A-BB7C-FA54CC739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A3DE-A1EB-40F2-A5E2-2DEA72DF7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2C5E-23EF-4FB6-AC38-3AC69C02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DB9C-811A-459C-BDCA-F231A47C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7FE4-EA4A-4000-9B34-10267450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644F-D4B0-4A67-ABA2-D1D2185C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E8C2-7F6B-4A60-813B-79B3B939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0997-5ABC-4A42-8EB3-3DA6E388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3EF8-4085-4A9C-A773-A634EB73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D1A0-0C9E-4DC7-8CEA-E3F9E92B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0552-A9CD-4296-A000-148125A1C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28600"/>
            <a:ext cx="8991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pen the Box -  Rounding Decimals to the nearest whol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066680"/>
          <a:ext cx="7924320" cy="4546440"/>
        </p:xfrm>
        <a:graphic>
          <a:graphicData uri="http://schemas.openxmlformats.org/drawingml/2006/table">
            <a:tbl>
              <a:tblPr/>
              <a:tblGrid>
                <a:gridCol w="1584720"/>
                <a:gridCol w="1585080"/>
                <a:gridCol w="1584720"/>
                <a:gridCol w="1584720"/>
                <a:gridCol w="1585080"/>
              </a:tblGrid>
              <a:tr h="22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04920" y="6019920"/>
            <a:ext cx="8686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19920"/>
            <a:ext cx="91440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at must we add to the decimal numbers to reach the next whole number written bel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066680"/>
            <a:ext cx="1600200" cy="2286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066680"/>
            <a:ext cx="16002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7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352680"/>
            <a:ext cx="16002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.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3352680"/>
            <a:ext cx="1600200" cy="2286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1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1066680"/>
            <a:ext cx="1600200" cy="2286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5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9880" y="3352680"/>
            <a:ext cx="16002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8.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10080" y="1066680"/>
            <a:ext cx="16002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3352680"/>
            <a:ext cx="1600200" cy="2286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066680"/>
            <a:ext cx="1600200" cy="2286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352680"/>
            <a:ext cx="16002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.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19:38Z</dcterms:created>
  <dc:creator>ok</dc:creator>
  <dc:description/>
  <dc:language>en-US</dc:language>
  <cp:lastModifiedBy>ok</cp:lastModifiedBy>
  <dcterms:modified xsi:type="dcterms:W3CDTF">2003-08-28T14:28:57Z</dcterms:modified>
  <cp:revision>5</cp:revision>
  <dc:subject/>
  <dc:title>PowerPoint Presentation</dc:title>
</cp:coreProperties>
</file>