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60C-1242-4F90-8D83-D4D6C496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7FF-F192-4ADD-95E7-C0B4954C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42B-3429-418D-B616-19375F4A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256-0D2D-46E5-B691-B11571CC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32C-9FDA-4652-A875-5D67B48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029-6ADF-4D3C-B010-EDD2614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557-C71A-455D-9A51-4DD4C843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E65-8D15-47A8-996B-7ADA82D0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E66-2A34-48F2-ACBD-98AA982C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7A5-028B-4FB8-9E57-7BFAE7D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B4F-A1B1-4F37-91BB-D7F3D84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567-7BE9-4041-A8D1-2AC84EF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5D3-B7A7-451B-A141-BC19EEB5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9040"/>
        </p:xfrm>
        <a:graphic>
          <a:graphicData uri="http://schemas.openxmlformats.org/drawingml/2006/table">
            <a:tbl>
              <a:tblPr/>
              <a:tblGrid>
                <a:gridCol w="1905120"/>
                <a:gridCol w="2095560"/>
                <a:gridCol w="2000160"/>
                <a:gridCol w="2000160"/>
              </a:tblGrid>
              <a:tr h="20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.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.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8.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3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a 2-digit Number by 10 and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03:53Z</dcterms:modified>
  <cp:revision>2</cp:revision>
  <dc:subject/>
  <dc:title>PowerPoint Presentation</dc:title>
</cp:coreProperties>
</file>