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9A6B1-6781-4397-A8E9-239745E49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D0168-0797-47DD-BF7B-4FD5B1A52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CF78B-7532-4C72-A688-C424B4190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C5B10-D65A-4E81-9808-17D38D366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D1DEE-AD16-4B62-8BAA-9D01F8629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AAEA6-D71C-4EE7-A249-FC40B03D6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7E29C-0DB7-4E1A-978A-8EE6DE72E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68E09-4AAA-4821-8831-231AC757E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82B36-6902-4186-A67E-55DF7C2E8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20110-28ED-4A40-BF8A-5CA70BAED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4B628-1D24-4CFE-868E-EE94410C3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1AE94-2EF6-414C-BF1A-6567C73B0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91464-E1B1-4D71-AF9F-E9F2ECD15E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981000"/>
            <a:ext cx="12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0.21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843280" y="981000"/>
            <a:ext cx="43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716360" y="98100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867280" y="981000"/>
            <a:ext cx="6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92360" y="907920"/>
            <a:ext cx="935280" cy="5050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187280" y="1844640"/>
            <a:ext cx="935280" cy="504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71640" y="1844640"/>
            <a:ext cx="43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19640" y="1916280"/>
            <a:ext cx="129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8.10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643280" y="1916280"/>
            <a:ext cx="6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867280" y="2708280"/>
            <a:ext cx="6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84720" y="1844640"/>
            <a:ext cx="6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19640" y="2781360"/>
            <a:ext cx="934920" cy="504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643280" y="2708280"/>
            <a:ext cx="6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71640" y="2781360"/>
            <a:ext cx="43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971640" y="2781360"/>
            <a:ext cx="129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6.08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348000" y="4005360"/>
            <a:ext cx="12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9.21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0" y="400536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867280" y="3860640"/>
            <a:ext cx="6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771640" y="4005360"/>
            <a:ext cx="43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87280" y="4005360"/>
            <a:ext cx="935280" cy="504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19640" y="4941720"/>
            <a:ext cx="934920" cy="5050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572000" y="494172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2000" y="486900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1640" y="4941720"/>
            <a:ext cx="43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900000" y="4941720"/>
            <a:ext cx="12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7.44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971640" y="189000"/>
            <a:ext cx="7345440" cy="7038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cc00"/>
                </a:solidFill>
                <a:latin typeface="Arial"/>
              </a:rPr>
              <a:t>Round 2 place decimal numbers to the nearest whole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09T21:08:05Z</dcterms:created>
  <dc:creator>Teacher</dc:creator>
  <dc:description/>
  <dc:language>en-US</dc:language>
  <cp:lastModifiedBy>Teacher</cp:lastModifiedBy>
  <dcterms:modified xsi:type="dcterms:W3CDTF">2003-02-09T21:18:40Z</dcterms:modified>
  <cp:revision>2</cp:revision>
  <dc:subject/>
  <dc:title>Slide 1</dc:title>
</cp:coreProperties>
</file>