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BC1-EFE1-4094-B9EF-D42D21E3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F26-CA6F-4F6B-AFA1-46BFC28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B12-B048-404D-8CF9-D3EE00AB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A97-5290-4CF7-ACEA-B59A96B8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13B-607D-4E93-8945-958E708B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EE5-4D95-4E18-A2CD-E0E13E6F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82B-384B-4BF8-8F32-3D3B951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025-2355-4F45-895B-80380B6F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C8C-F4B8-40B7-99B1-F842DAE6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DB5-0385-42A5-9664-3C66D12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E82-C47F-4587-900B-85A282FF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7C5-9FCF-4137-9916-14FA213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869-CF7E-4CA0-B99C-C3D4C87D5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Grid Fractions – Fractions and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8076960" cy="4546080"/>
        </p:xfrm>
        <a:graphic>
          <a:graphicData uri="http://schemas.openxmlformats.org/drawingml/2006/table">
            <a:tbl>
              <a:tblPr/>
              <a:tblGrid>
                <a:gridCol w="1615320"/>
                <a:gridCol w="1615680"/>
                <a:gridCol w="1614960"/>
                <a:gridCol w="1615680"/>
                <a:gridCol w="161532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33:10Z</dcterms:created>
  <dc:creator>ok</dc:creator>
  <dc:description/>
  <dc:language>en-US</dc:language>
  <cp:lastModifiedBy>ok</cp:lastModifiedBy>
  <dcterms:modified xsi:type="dcterms:W3CDTF">2003-08-27T16:33:38Z</dcterms:modified>
  <cp:revision>1</cp:revision>
  <dc:subject/>
  <dc:title>PowerPoint Presentation</dc:title>
</cp:coreProperties>
</file>