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191B-2A68-4627-BC47-EE6D576C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0E41-C91D-4A9B-9A91-FEEE6EBC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738F-2A35-4D3F-9160-1647CB6F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4B3A-61EC-4854-82D6-1CABB0986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A216-A9F1-4E16-8EE0-8D8C5AE9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B564-B0DE-4B46-9689-FB8A77B2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92EF-D602-4014-9A48-A974E1C7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67AA-DF23-4070-9A9D-B2B81261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0614-9F42-4A0B-A727-73854FFC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14E9-B65B-421D-972C-05E1570F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F6BC-6A00-4C3B-A4C6-F0DF001B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ED51-0203-4576-8D7A-3E1D9D45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FD46-CC44-4643-8B63-EA1F9D0DCA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04920"/>
            <a:ext cx="830592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ivision – Halves, Quarters and Eighths of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09480" y="1397160"/>
          <a:ext cx="7925040" cy="4917960"/>
        </p:xfrm>
        <a:graphic>
          <a:graphicData uri="http://schemas.openxmlformats.org/drawingml/2006/table">
            <a:tbl>
              <a:tblPr/>
              <a:tblGrid>
                <a:gridCol w="1981440"/>
                <a:gridCol w="1981080"/>
                <a:gridCol w="1981080"/>
                <a:gridCol w="19814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What is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99ff99"/>
                          </a:solidFill>
                          <a:uFillTx/>
                          <a:latin typeface="Times New Roman"/>
                        </a:rPr>
                        <a:t> </a:t>
                      </a:r>
                      <a:r>
                        <a:rPr b="0" lang="en-GB" sz="2000" spc="-1" strike="noStrike" u="sng">
                          <a:solidFill>
                            <a:srgbClr val="99ff99"/>
                          </a:solidFill>
                          <a:uFillTx/>
                          <a:latin typeface="Times New Roman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GB" sz="20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2  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99ff99"/>
                          </a:solidFill>
                          <a:uFillTx/>
                          <a:latin typeface="Times New Roman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99ff99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4  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99ff99"/>
                          </a:solidFill>
                          <a:uFillTx/>
                          <a:latin typeface="Times New Roman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99ff99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8 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10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6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1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26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4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8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27:19Z</dcterms:created>
  <dc:creator>ok</dc:creator>
  <dc:description/>
  <dc:language>en-US</dc:language>
  <cp:lastModifiedBy>ok</cp:lastModifiedBy>
  <dcterms:modified xsi:type="dcterms:W3CDTF">2003-08-27T16:08:41Z</dcterms:modified>
  <cp:revision>2</cp:revision>
  <dc:subject/>
  <dc:title>PowerPoint Presentation</dc:title>
</cp:coreProperties>
</file>