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E787-2678-4344-8BF9-4FD8031E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83D-3129-421C-9196-E08FBD18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1C28-F4C6-4339-890E-720A6FA0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38A2-0383-4F19-9415-C3246832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096-420F-497E-A3B5-A744EB63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3E02-3598-404F-B76D-EF9EF644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F9C4-CA2E-409E-90E6-A32675AD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E35-8A5F-47A3-AE86-2C1BB555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8F9-3F23-472E-A135-64F1A862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801-DAEA-403B-9DA9-09869AF7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6CE9-CD91-446A-B714-33032EF2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774-585A-4E1F-827B-4A986C60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5F2C-08CB-44BA-9D82-1EE43D291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90792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12% 0f 33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16720" y="4941720"/>
            <a:ext cx="180036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75% 0f 204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21000"/>
            <a:ext cx="18000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greater; 30% of 213 or 1/5 of 3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357336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35% of 46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5445000"/>
            <a:ext cx="180036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3/7 of 8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9640" y="836640"/>
            <a:ext cx="1800000" cy="173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8-packs of crips can be made from a total package of 768 cris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72360" y="2492280"/>
            <a:ext cx="1800000" cy="916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greater; 1/3 of 2070 or 20% of 34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933720"/>
            <a:ext cx="1800360" cy="916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50% of of a quarter of 68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2360" y="90792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1/5 of 339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37372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90% of 64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0:57:02Z</dcterms:created>
  <dc:creator>Teacher</dc:creator>
  <dc:description/>
  <dc:language>en-US</dc:language>
  <cp:lastModifiedBy>Teacher</cp:lastModifiedBy>
  <dcterms:modified xsi:type="dcterms:W3CDTF">2003-03-13T22:37:32Z</dcterms:modified>
  <cp:revision>4</cp:revision>
  <dc:subject/>
  <dc:title>Slide 1</dc:title>
</cp:coreProperties>
</file>