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B77-9546-4843-A78C-7579F9C9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5EC-F463-4D7B-9AA1-A6FF53E9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4E8-E693-464E-BA24-3DCC70CE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A54-759F-4CAB-B281-08B1E2C2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4A4-3F88-46D6-B68E-741EC100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523-BEA8-46AB-98CC-37355321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6AB-8228-49AD-AB18-7E5F0983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BA1-E668-4BC7-AD78-461CF6CF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A74-972C-4374-9669-AC87EEDC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E6B-C73D-469A-AFB8-FA27234E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D43-E208-4A53-B871-EA475CC6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401-AC1A-40A6-A0ED-D17FAFE6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E354-8BA7-4F43-990C-6B67ACC52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ercentage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0% of  240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4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0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80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8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5%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2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8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0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4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213520"/>
            <a:ext cx="2158920" cy="94644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 out the new price of a dress costing £80 that has been reduced by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2737080" cy="7333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 out the new price of a dress costing £1200 that has been reduced by 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£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4-01T07:19:13Z</dcterms:modified>
  <cp:revision>4</cp:revision>
  <dc:subject/>
  <dc:title>Slide 1</dc:title>
</cp:coreProperties>
</file>