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DCE9-267B-4F30-B2A0-353E73381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B6D3-105F-403D-B522-677CB7908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445D-510E-4C5F-BF4C-6978123B6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8752-509D-4D48-8FB3-2D420693D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C60B-E925-4287-B48F-4FBD56952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3EFE-6DCB-4C77-A302-9C318DBD5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133F-1F5F-47F2-9DC7-0C6BF5515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8D8D-77F7-4590-B14D-F59EFDE99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F4C5-1E42-4240-906D-1C7AA6356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F056-7140-4FAB-88AB-B84BB885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5DB9-13F5-4D6D-A2C4-D61540873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5191-38AD-4379-B25E-98ECDB2DD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C7032-E0C4-4CFD-8C43-49C991C85AA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228600" y="0"/>
            <a:ext cx="937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ltiplying by 10 and then adding and subtrac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447920" y="2514600"/>
          <a:ext cx="6095880" cy="381924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  <a:gridCol w="2032200"/>
              </a:tblGrid>
              <a:tr h="38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0" y="990720"/>
            <a:ext cx="914400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nd a way of making each target number by multiplying a number, such as 40, and then adding or subtracting to reach the number. Example: 40 multiplied by 3 is 120, take away 4 equal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1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4:50:12Z</dcterms:created>
  <dc:creator>ok</dc:creator>
  <dc:description/>
  <dc:language>en-US</dc:language>
  <cp:lastModifiedBy>ok</cp:lastModifiedBy>
  <dcterms:modified xsi:type="dcterms:W3CDTF">2003-08-27T15:50:50Z</dcterms:modified>
  <cp:revision>4</cp:revision>
  <dc:subject/>
  <dc:title>PowerPoint Presentation</dc:title>
</cp:coreProperties>
</file>