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836-A9E9-43D9-8D95-7D38615B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CE0-DBDB-4D9F-B7C4-1B58A6A9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516-CFDC-46F6-86E2-EE6BD0E5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37A-D330-494A-92B6-81D2BB36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FF5-4AA1-4080-A296-C119F3A4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B71-1AFD-48FC-A749-91A7204A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7AA-C6EF-46C5-BB7E-AA0DD2EB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E03-AC00-4B48-A193-04A2A78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9FA-097D-4FBE-8D4A-7AB4B6F1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AA6-E0CA-4FD3-A00D-605C3C06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26F-2BE1-4D1D-9285-689F03EB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AFF-0BF7-406C-805C-ECC41D1A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AB0A-D4E9-4AF7-BE7F-9C11DE34B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38080"/>
          <a:ext cx="8001000" cy="563868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20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.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91440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unding Decimal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4:51:05Z</dcterms:modified>
  <cp:revision>1</cp:revision>
  <dc:subject/>
  <dc:title>PowerPoint Presentation</dc:title>
</cp:coreProperties>
</file>