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0E87-679D-49D6-BFAE-03E19601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A87B-2580-4F72-8E96-14058699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DC09-4E29-4446-BA3E-9F68A5A9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90EE-08FB-4A82-8700-D2F5FF7F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DA2B-BADA-44BA-A1AE-F4ED390D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A52F-08BA-4C59-9346-483B577A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2865-08C5-4E4E-96B0-D543F6F4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3D89-69A8-46FA-A0E1-79F41380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DFF7-0741-406D-8CB3-154A315C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F966-7BFB-4C43-AD35-3BA6C805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CF4D-8CB0-4E72-8359-ECF6D668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305D-8DC8-4CE5-AF0F-D0DF48C9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9016-0B9E-4A52-96D9-169C1D635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25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0 – 190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125360"/>
            <a:ext cx="647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1773360"/>
            <a:ext cx="647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2565360"/>
            <a:ext cx="647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3284640"/>
            <a:ext cx="647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3933720"/>
            <a:ext cx="647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4581360"/>
            <a:ext cx="647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1844640"/>
            <a:ext cx="3384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23 – 108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565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3 – 119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328464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20 – 390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86064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2 – 139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458136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80 – 197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260280"/>
            <a:ext cx="74170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Find out what the correct answer should be for these eq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5445000"/>
            <a:ext cx="7920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5445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80 – 0.97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2.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9:42:34Z</dcterms:created>
  <dc:creator>Teacher</dc:creator>
  <dc:description/>
  <dc:language>en-US</dc:language>
  <cp:lastModifiedBy>Teacher</cp:lastModifiedBy>
  <dcterms:modified xsi:type="dcterms:W3CDTF">2003-02-12T20:27:44Z</dcterms:modified>
  <cp:revision>3</cp:revision>
  <dc:subject/>
  <dc:title>Slide 1</dc:title>
</cp:coreProperties>
</file>