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AB5B-E64F-483B-AFAA-C672B074E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A3B9-635C-43DE-9003-9BF97DAD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278B-4480-4FA7-AE52-4414A7ACA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6C25-B635-4E81-8127-61B0C0A95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BF3A-9B3C-45E8-A765-38D98014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9B2B-2C68-49A6-929A-A8D8206D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442E-5B3F-423B-84B5-1EA639C6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071E-A437-4F31-B864-7C168336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EA69-3BCA-4872-8F55-706DEE82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51F0-727B-441B-ABEC-A50D3D74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9E98-1CA4-4A06-9019-F8E7AD64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1CF1-0455-4352-8198-4077FC49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F01E-8B31-4D7C-89A8-8507EA3F8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35280" y="260280"/>
            <a:ext cx="56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vide these numbers by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22:11:04Z</dcterms:created>
  <dc:creator>Teacher</dc:creator>
  <dc:description/>
  <dc:language>en-US</dc:language>
  <cp:lastModifiedBy>Teacher</cp:lastModifiedBy>
  <dcterms:modified xsi:type="dcterms:W3CDTF">2003-03-03T22:11:19Z</dcterms:modified>
  <cp:revision>1</cp:revision>
  <dc:subject/>
  <dc:title>Slide 1</dc:title>
</cp:coreProperties>
</file>