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FA6-7E07-4E9F-9A82-3C7685AC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363-13CC-42C5-B9B1-FC04006A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F93-B8DF-4CA6-9691-6876BC19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C61-398F-4D67-8439-C704B98E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05F-929B-4F48-A248-C0F8D86A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6EA-3A1A-498F-8B5A-E630C03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247-A817-472B-9435-E07BF67A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95C-0560-42D6-8616-55F2A2B9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DC-BCA8-482B-8D79-D79FB7FD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D57-6940-4087-A611-A5BE251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13C-B31D-450F-9CEC-E55A196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165-F86B-47AA-A1AF-D776F49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3A0B-6B0E-4332-9513-81A90D7D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838080"/>
            <a:ext cx="22100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27:13Z</dcterms:modified>
  <cp:revision>1</cp:revision>
  <dc:subject/>
  <dc:title>PowerPoint Presentation</dc:title>
</cp:coreProperties>
</file>