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824-21CE-4348-BB85-2AE990A6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DAE-F4AB-4D5C-ADCA-4CC8193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CD8-DE3D-455B-9A5F-2D6B8BE3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E4D-B2B0-4981-BBA9-C76B7C4B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3A6-D963-4BF5-86C1-FD6846BF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957-9030-4BC6-98D9-C813FA2C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715-3CA6-4B3C-A125-6EF7853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CC6-6037-449D-8112-6112FAF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975-D7C7-4F0A-B4DA-89B2D645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0AB-F7F1-49DF-8217-840F167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923-4C73-43F0-85EF-C0B7480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DD8-D8DB-4B4C-9D15-AE828B9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6198-3DFA-4967-B098-056CAF27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ins below will still be available tomorrow morning. However, the 1p coin will be withdrawn after today. Which amounts of money will it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ke in the mo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2565360"/>
            <a:ext cx="93672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708280"/>
            <a:ext cx="792000" cy="72072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2852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221000"/>
            <a:ext cx="1081080" cy="1224000"/>
          </a:xfrm>
          <a:prstGeom prst="donut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£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4076640"/>
            <a:ext cx="1224000" cy="136836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933720"/>
            <a:ext cx="1440000" cy="1366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0:32Z</dcterms:created>
  <dc:creator>Teacher</dc:creator>
  <dc:description/>
  <dc:language>en-US</dc:language>
  <cp:lastModifiedBy>Teacher</cp:lastModifiedBy>
  <dcterms:modified xsi:type="dcterms:W3CDTF">2003-02-23T13:54:04Z</dcterms:modified>
  <cp:revision>2</cp:revision>
  <dc:subject/>
  <dc:title>Slide 1</dc:title>
</cp:coreProperties>
</file>