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2B6-0FF6-4F4E-8307-535EC133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A54-2075-4D88-A146-2769CD88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D42-B1AA-49A6-B59C-2E9B2B52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F78-76BC-4A46-9DA9-9B63CA2C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873-105E-4F53-8922-3655073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B54-D710-485A-9C3E-CBD602B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B3B-F026-46BF-965F-F56A153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E8C-8444-4685-BDD1-C329C14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E5B-D946-4F3E-9907-49711C3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B74-ACE4-487C-93EB-CC0DEF8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FDB-9768-4198-B05B-CD47195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B8B-63FE-45F0-B455-1D075C4D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094B-656C-4126-AC79-2D1E2968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637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141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836640"/>
            <a:ext cx="2808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789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429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69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516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156360"/>
            <a:ext cx="280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16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33:30Z</dcterms:created>
  <dc:creator>Teacher</dc:creator>
  <dc:description/>
  <dc:language>en-US</dc:language>
  <cp:lastModifiedBy>Teacher</cp:lastModifiedBy>
  <dcterms:modified xsi:type="dcterms:W3CDTF">2003-02-05T22:37:56Z</dcterms:modified>
  <cp:revision>2</cp:revision>
  <dc:subject/>
  <dc:title>Slide 1</dc:title>
</cp:coreProperties>
</file>