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953-36CC-4C9F-9E9D-28D7F1C7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00C-62A6-4DE1-8CB1-7030088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645-1D86-4B99-B8AC-F69979D2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01C-8332-4E19-BE25-C20D5826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146-75D1-4C04-8183-4C6E3A5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144-88DD-44EA-84FE-72DB5FCF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25B-5C5E-47BE-801D-39C8C3F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57A-9867-40CC-8622-62B3C6E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7EA-9077-483E-BD64-8A5737F9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19-C39A-4DC1-9AFE-68DBCFD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E8C-7884-4CF2-8A23-7B9F41A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7D1-75D1-4A33-83C7-77DFADA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F35-69D8-4D96-9592-2ABFDE958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20 - 18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subtract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0 - 170 =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20 - 230 = 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40 - 180 = 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50 - 210 = 4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30 - 570 = 2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0 - 19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40 - 170 = 3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30 - 160 =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90 - 380 = 7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2:33:07Z</dcterms:modified>
  <cp:revision>2</cp:revision>
  <dc:subject/>
  <dc:title>PowerPoint Presentation</dc:title>
</cp:coreProperties>
</file>