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0349-E5AA-4614-B463-BA84961F5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1077-4B98-4143-A6C6-BCDC98A6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E3C7-765E-4143-ACC7-EC5533F06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5F4A-5E93-4A8F-A69F-8BEAE836D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252B-3AFB-4055-A617-3F6F781A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A031-981F-4958-8688-1B7BAF10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AFEF-0EEA-4B4C-865B-323548BF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C384-EFCD-407F-9E07-891DA287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DE35-B58B-432C-B197-C868E9FF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3925-0A8B-489E-9726-6EE10F03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2101-3216-4086-BFBB-0F758D27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7279-C2C7-4717-A0A6-BA47F239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4787-E791-476E-9583-10D89E1673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04920"/>
            <a:ext cx="830592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ddition and Subt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09480" y="1066680"/>
          <a:ext cx="7925040" cy="5127840"/>
        </p:xfrm>
        <a:graphic>
          <a:graphicData uri="http://schemas.openxmlformats.org/drawingml/2006/table">
            <a:tbl>
              <a:tblPr/>
              <a:tblGrid>
                <a:gridCol w="1981440"/>
                <a:gridCol w="1981080"/>
                <a:gridCol w="1981080"/>
                <a:gridCol w="1981440"/>
              </a:tblGrid>
              <a:tr h="102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Makes 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Makes 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0.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1.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0.2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1.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0.0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1.5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0.3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1.3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0.8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0.7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0.4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0.0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at must we add to the first and third columns to make 1 or 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27:19Z</dcterms:created>
  <dc:creator>ok</dc:creator>
  <dc:description/>
  <dc:language>en-US</dc:language>
  <cp:lastModifiedBy>ok</cp:lastModifiedBy>
  <dcterms:modified xsi:type="dcterms:W3CDTF">2003-08-28T12:24:27Z</dcterms:modified>
  <cp:revision>2</cp:revision>
  <dc:subject/>
  <dc:title>PowerPoint Presentation</dc:title>
</cp:coreProperties>
</file>