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3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EdOUPTTP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78AA-EC96-4DF3-AB9D-307E2BB77DEF}" type="slidenum">
              <a:rPr b="0" lang="en-US" sz="1200" spc="-1" strike="noStrike">
                <a:solidFill>
                  <a:srgbClr val="000000"/>
                </a:solidFill>
                <a:latin typeface="GillEdOUPTTP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out the presentation click the left mouse button to move on.  After the final slide the presentation will loop back to the first working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introduction as a whole class activity children can use this presentation individually for further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 Read the calculation when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 Count the pictures as they 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 Count the pictures as they disapp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 Count how many are lef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 Check your answer as it appea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 Re-read the complete calcula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onica C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ndas@camelsdale.w-sussex.sch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F9F-7BDD-43B6-B11B-F098510C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D7D8-8A6C-4332-8772-3F0B26D3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144-40A6-4583-AE17-7D4B16CF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6BD-7FC0-4352-A92E-40553194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FFD-736A-490F-9C83-D6CF25D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CCE-0EE1-44D9-AF38-C1912FB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27A-5B57-48A8-AF0B-67C61B34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F6B-408C-42A9-877A-B253D720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158-19C2-4834-B0CE-A822CD15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BE6-F273-4AD8-A981-04B7225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194-541E-42F5-B6F6-E997242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901-B8D4-4EAF-A4C6-1072B75E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C0B9-6891-41A9-8065-F5604E6B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wmf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ub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by Veronica Carter for Pandas Y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elsdale First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pavilion.co.uk/camelsdal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e notes attached to slide 2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2209680"/>
            <a:ext cx="5410080" cy="4430880"/>
            <a:chOff x="457200" y="2209680"/>
            <a:chExt cx="5410080" cy="4430880"/>
          </a:xfrm>
        </p:grpSpPr>
        <p:graphicFrame>
          <p:nvGraphicFramePr>
            <p:cNvPr id="131" name=""/>
            <p:cNvGraphicFramePr/>
            <p:nvPr/>
          </p:nvGraphicFramePr>
          <p:xfrm>
            <a:off x="457200" y="2971800"/>
            <a:ext cx="1676520" cy="1382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971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"/>
            <p:cNvGraphicFramePr/>
            <p:nvPr/>
          </p:nvGraphicFramePr>
          <p:xfrm>
            <a:off x="2362320" y="3809880"/>
            <a:ext cx="1676160" cy="1382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362320" y="380988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286000" y="2209680"/>
            <a:ext cx="1676520" cy="1382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0" y="22096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533520" y="4648320"/>
            <a:ext cx="1676160" cy="13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2438280" y="5257800"/>
            <a:ext cx="1676520" cy="1382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38280" y="525780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4191120" y="4648320"/>
            <a:ext cx="1676160" cy="1382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191120" y="4648320"/>
                      <a:ext cx="167616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114800" y="3124080"/>
            <a:ext cx="1676520" cy="13827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114800" y="3124080"/>
                      <a:ext cx="1676520" cy="13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114800" y="3124080"/>
          <a:ext cx="1676520" cy="1382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114800" y="31240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762120"/>
            <a:ext cx="518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2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971800"/>
          <a:ext cx="1676520" cy="13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362320" y="3809880"/>
          <a:ext cx="167616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80988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86000" y="2209680"/>
          <a:ext cx="1676520" cy="138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0" y="220968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33520" y="4648320"/>
          <a:ext cx="1676160" cy="138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3520" y="4648320"/>
                    <a:ext cx="16761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438280" y="5257800"/>
          <a:ext cx="1676520" cy="1382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5257800"/>
                    <a:ext cx="1676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486400" y="762120"/>
            <a:ext cx="129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7200" y="2286000"/>
            <a:ext cx="4572000" cy="4367160"/>
            <a:chOff x="457200" y="2286000"/>
            <a:chExt cx="4572000" cy="4367160"/>
          </a:xfrm>
        </p:grpSpPr>
        <p:graphicFrame>
          <p:nvGraphicFramePr>
            <p:cNvPr id="172" name=""/>
            <p:cNvGraphicFramePr/>
            <p:nvPr/>
          </p:nvGraphicFramePr>
          <p:xfrm>
            <a:off x="533520" y="2286000"/>
            <a:ext cx="1904760" cy="101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4" name=""/>
            <p:cNvGraphicFramePr/>
            <p:nvPr/>
          </p:nvGraphicFramePr>
          <p:xfrm>
            <a:off x="533520" y="3352680"/>
            <a:ext cx="1904760" cy="1014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335268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"/>
            <p:cNvGraphicFramePr/>
            <p:nvPr/>
          </p:nvGraphicFramePr>
          <p:xfrm>
            <a:off x="457200" y="4495680"/>
            <a:ext cx="1905120" cy="101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8" name=""/>
            <p:cNvGraphicFramePr/>
            <p:nvPr/>
          </p:nvGraphicFramePr>
          <p:xfrm>
            <a:off x="3124080" y="3352680"/>
            <a:ext cx="1905120" cy="1014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24080" y="3352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048120" y="2286000"/>
            <a:ext cx="1904760" cy="10144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48120" y="2286000"/>
                      <a:ext cx="190476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457200" y="5638680"/>
            <a:ext cx="1905120" cy="1014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124080" y="4495680"/>
            <a:ext cx="1905120" cy="10144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24080" y="4495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3124080" y="5638680"/>
            <a:ext cx="1905120" cy="10144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124080" y="5638680"/>
                      <a:ext cx="1905120" cy="101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124080" y="4495680"/>
          <a:ext cx="1905120" cy="1014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2408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3124080" y="3352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124080" y="3352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048120" y="2286000"/>
          <a:ext cx="190476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76520" y="838080"/>
            <a:ext cx="441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33520" y="2286000"/>
          <a:ext cx="1904760" cy="101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28600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3352680"/>
          <a:ext cx="1904760" cy="101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3352680"/>
                    <a:ext cx="190476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4495680"/>
          <a:ext cx="1905120" cy="101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4495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5638680"/>
          <a:ext cx="1905120" cy="1014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5638680"/>
                    <a:ext cx="190512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638680" y="838080"/>
            <a:ext cx="1828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04920" y="2590920"/>
            <a:ext cx="8534160" cy="3378240"/>
            <a:chOff x="304920" y="2590920"/>
            <a:chExt cx="8534160" cy="3378240"/>
          </a:xfrm>
        </p:grpSpPr>
        <p:graphicFrame>
          <p:nvGraphicFramePr>
            <p:cNvPr id="239" name=""/>
            <p:cNvGraphicFramePr/>
            <p:nvPr/>
          </p:nvGraphicFramePr>
          <p:xfrm>
            <a:off x="380880" y="4495680"/>
            <a:ext cx="1524240" cy="147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495680"/>
                      <a:ext cx="152424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1" name=""/>
            <p:cNvGraphicFramePr/>
            <p:nvPr/>
          </p:nvGraphicFramePr>
          <p:xfrm>
            <a:off x="2133720" y="4495680"/>
            <a:ext cx="1523880" cy="147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3962520" y="4495680"/>
            <a:ext cx="1523880" cy="147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962520" y="4495680"/>
                      <a:ext cx="1523880" cy="147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45" name=""/>
            <p:cNvGrpSpPr/>
            <p:nvPr/>
          </p:nvGrpSpPr>
          <p:grpSpPr>
            <a:xfrm>
              <a:off x="304920" y="2590920"/>
              <a:ext cx="8534160" cy="3301920"/>
              <a:chOff x="304920" y="2590920"/>
              <a:chExt cx="8534160" cy="3301920"/>
            </a:xfrm>
          </p:grpSpPr>
          <p:graphicFrame>
            <p:nvGraphicFramePr>
              <p:cNvPr id="246" name=""/>
              <p:cNvGraphicFramePr/>
              <p:nvPr/>
            </p:nvGraphicFramePr>
            <p:xfrm>
              <a:off x="304920" y="2590920"/>
              <a:ext cx="1523880" cy="14731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4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0492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8" name=""/>
              <p:cNvGraphicFramePr/>
              <p:nvPr/>
            </p:nvGraphicFramePr>
            <p:xfrm>
              <a:off x="2057400" y="2590920"/>
              <a:ext cx="1523880" cy="147312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24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2057400" y="25909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0" name=""/>
              <p:cNvGraphicFramePr/>
              <p:nvPr/>
            </p:nvGraphicFramePr>
            <p:xfrm>
              <a:off x="3809880" y="2590920"/>
              <a:ext cx="1524240" cy="14731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5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38098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2" name=""/>
              <p:cNvGraphicFramePr/>
              <p:nvPr/>
            </p:nvGraphicFramePr>
            <p:xfrm>
              <a:off x="5791320" y="4419720"/>
              <a:ext cx="1523880" cy="147312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5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791320" y="44197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4" name=""/>
              <p:cNvGraphicFramePr/>
              <p:nvPr/>
            </p:nvGraphicFramePr>
            <p:xfrm>
              <a:off x="5638680" y="2590920"/>
              <a:ext cx="1524240" cy="147312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5638680" y="2590920"/>
                        <a:ext cx="152424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" name=""/>
              <p:cNvGraphicFramePr/>
              <p:nvPr/>
            </p:nvGraphicFramePr>
            <p:xfrm>
              <a:off x="7315200" y="3505320"/>
              <a:ext cx="1523880" cy="147312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7315200" y="3505320"/>
                        <a:ext cx="1523880" cy="147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28800" y="8380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9 - 1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04920" y="2590920"/>
          <a:ext cx="1523880" cy="147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2057400" y="2590920"/>
          <a:ext cx="1523880" cy="147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25909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3809880" y="2590920"/>
          <a:ext cx="1524240" cy="147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80880" y="4495680"/>
          <a:ext cx="1524240" cy="1473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495680"/>
                    <a:ext cx="1524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133720" y="4495680"/>
          <a:ext cx="1523880" cy="1473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1337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962520" y="4495680"/>
          <a:ext cx="1523880" cy="147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495680"/>
                    <a:ext cx="15238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791320" y="4419720"/>
          <a:ext cx="1523880" cy="147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419720"/>
                    <a:ext cx="15238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638680" y="2590920"/>
          <a:ext cx="1524240" cy="1473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38680" y="2590920"/>
                    <a:ext cx="1524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5791320" y="838080"/>
            <a:ext cx="1066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57200" y="2514600"/>
            <a:ext cx="5595840" cy="3808440"/>
            <a:chOff x="457200" y="2514600"/>
            <a:chExt cx="5595840" cy="3808440"/>
          </a:xfrm>
        </p:grpSpPr>
        <p:graphicFrame>
          <p:nvGraphicFramePr>
            <p:cNvPr id="52" name=""/>
            <p:cNvGraphicFramePr/>
            <p:nvPr/>
          </p:nvGraphicFramePr>
          <p:xfrm>
            <a:off x="4267080" y="4724280"/>
            <a:ext cx="1785960" cy="1598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472428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4191120" y="2514600"/>
            <a:ext cx="1785960" cy="1598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91120" y="2514600"/>
                      <a:ext cx="178596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2362320" y="3733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362320" y="3733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3520" y="2743200"/>
            <a:ext cx="7607160" cy="3486240"/>
            <a:chOff x="533520" y="2743200"/>
            <a:chExt cx="7607160" cy="3486240"/>
          </a:xfrm>
        </p:grpSpPr>
        <p:graphicFrame>
          <p:nvGraphicFramePr>
            <p:cNvPr id="277" name=""/>
            <p:cNvGraphicFramePr/>
            <p:nvPr/>
          </p:nvGraphicFramePr>
          <p:xfrm>
            <a:off x="533520" y="2743200"/>
            <a:ext cx="1511280" cy="1657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6629400" y="3581280"/>
            <a:ext cx="1511280" cy="1657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9400" y="35812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"/>
            <p:cNvGraphicFramePr/>
            <p:nvPr/>
          </p:nvGraphicFramePr>
          <p:xfrm>
            <a:off x="533520" y="4572000"/>
            <a:ext cx="1511280" cy="1657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2666880" y="2743200"/>
            <a:ext cx="1511280" cy="1657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66688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"/>
            <p:cNvGraphicFramePr/>
            <p:nvPr/>
          </p:nvGraphicFramePr>
          <p:xfrm>
            <a:off x="2666880" y="4495680"/>
            <a:ext cx="1511280" cy="1657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666880" y="449568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7" name=""/>
            <p:cNvGraphicFramePr/>
            <p:nvPr/>
          </p:nvGraphicFramePr>
          <p:xfrm>
            <a:off x="4800600" y="4572000"/>
            <a:ext cx="1511280" cy="16574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00600" y="45720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4800600" y="2743200"/>
            <a:ext cx="1511280" cy="1657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4800600" y="2743200"/>
                      <a:ext cx="151128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4800600" y="45720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4800600" y="2743200"/>
          <a:ext cx="1511280" cy="1657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533520" y="2743200"/>
          <a:ext cx="151128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533520" y="4572000"/>
          <a:ext cx="1511280" cy="1657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5720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666880" y="2743200"/>
          <a:ext cx="1511280" cy="1657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6880" y="274320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666880" y="4495680"/>
          <a:ext cx="1511280" cy="1657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66880" y="4495680"/>
                    <a:ext cx="15112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1828800" y="838080"/>
            <a:ext cx="533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7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76212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33520" y="2743200"/>
            <a:ext cx="5638680" cy="3411360"/>
            <a:chOff x="533520" y="2743200"/>
            <a:chExt cx="5638680" cy="3411360"/>
          </a:xfrm>
        </p:grpSpPr>
        <p:graphicFrame>
          <p:nvGraphicFramePr>
            <p:cNvPr id="328" name=""/>
            <p:cNvGraphicFramePr/>
            <p:nvPr/>
          </p:nvGraphicFramePr>
          <p:xfrm>
            <a:off x="533520" y="2743200"/>
            <a:ext cx="2514600" cy="1430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0" name=""/>
            <p:cNvGraphicFramePr/>
            <p:nvPr/>
          </p:nvGraphicFramePr>
          <p:xfrm>
            <a:off x="3657600" y="4724280"/>
            <a:ext cx="2514600" cy="1430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65760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2" name=""/>
            <p:cNvGraphicFramePr/>
            <p:nvPr/>
          </p:nvGraphicFramePr>
          <p:xfrm>
            <a:off x="533520" y="4724280"/>
            <a:ext cx="2514600" cy="1430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72428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4" name=""/>
            <p:cNvGraphicFramePr/>
            <p:nvPr/>
          </p:nvGraphicFramePr>
          <p:xfrm>
            <a:off x="3657600" y="2743200"/>
            <a:ext cx="2514600" cy="1430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657600" y="2743200"/>
                      <a:ext cx="251460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657600" y="2743200"/>
          <a:ext cx="2514600" cy="14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5760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533520" y="4724280"/>
          <a:ext cx="2514600" cy="143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472428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47920" y="1143000"/>
            <a:ext cx="426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4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3520" y="2743200"/>
          <a:ext cx="2514600" cy="143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743200"/>
                    <a:ext cx="251460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5334120" y="1066680"/>
            <a:ext cx="1523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8600" y="2895480"/>
            <a:ext cx="8686800" cy="3419640"/>
            <a:chOff x="228600" y="2895480"/>
            <a:chExt cx="8686800" cy="3419640"/>
          </a:xfrm>
        </p:grpSpPr>
        <p:graphicFrame>
          <p:nvGraphicFramePr>
            <p:cNvPr id="354" name=""/>
            <p:cNvGraphicFramePr/>
            <p:nvPr/>
          </p:nvGraphicFramePr>
          <p:xfrm>
            <a:off x="228600" y="2895480"/>
            <a:ext cx="2743200" cy="1438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3200400" y="3886200"/>
            <a:ext cx="2743200" cy="1438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200400" y="38862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8" name=""/>
            <p:cNvGraphicFramePr/>
            <p:nvPr/>
          </p:nvGraphicFramePr>
          <p:xfrm>
            <a:off x="6172200" y="4876920"/>
            <a:ext cx="2743200" cy="14382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5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87692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0" name=""/>
            <p:cNvGraphicFramePr/>
            <p:nvPr/>
          </p:nvGraphicFramePr>
          <p:xfrm>
            <a:off x="6019920" y="2895480"/>
            <a:ext cx="2743200" cy="1438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19920" y="2895480"/>
                      <a:ext cx="2743200" cy="143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2" name=""/>
            <p:cNvGraphicFramePr/>
            <p:nvPr/>
          </p:nvGraphicFramePr>
          <p:xfrm>
            <a:off x="228600" y="4800600"/>
            <a:ext cx="2743200" cy="1438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28600" y="4800600"/>
                      <a:ext cx="274320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6019920" y="2895480"/>
          <a:ext cx="2743200" cy="1438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191120" y="2514600"/>
          <a:ext cx="178596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2514600"/>
                    <a:ext cx="17859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68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3200400" y="38862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38862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28600" y="4800600"/>
          <a:ext cx="2743200" cy="14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800600"/>
                    <a:ext cx="27432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28600" y="2895480"/>
          <a:ext cx="2743200" cy="14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895480"/>
                    <a:ext cx="2743200" cy="14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676520" y="838080"/>
            <a:ext cx="4495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5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838080"/>
            <a:ext cx="1371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0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520" y="2209680"/>
            <a:ext cx="6532560" cy="4400640"/>
            <a:chOff x="533520" y="2209680"/>
            <a:chExt cx="6532560" cy="4400640"/>
          </a:xfrm>
        </p:grpSpPr>
        <p:graphicFrame>
          <p:nvGraphicFramePr>
            <p:cNvPr id="392" name=""/>
            <p:cNvGraphicFramePr/>
            <p:nvPr/>
          </p:nvGraphicFramePr>
          <p:xfrm>
            <a:off x="609480" y="2209680"/>
            <a:ext cx="1808280" cy="2114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2209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"/>
            <p:cNvGraphicFramePr/>
            <p:nvPr/>
          </p:nvGraphicFramePr>
          <p:xfrm>
            <a:off x="2895480" y="2286000"/>
            <a:ext cx="1808280" cy="2114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9548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6" name=""/>
            <p:cNvGraphicFramePr/>
            <p:nvPr/>
          </p:nvGraphicFramePr>
          <p:xfrm>
            <a:off x="533520" y="4495680"/>
            <a:ext cx="1807920" cy="2114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8" name=""/>
            <p:cNvGraphicFramePr/>
            <p:nvPr/>
          </p:nvGraphicFramePr>
          <p:xfrm>
            <a:off x="2819520" y="4495680"/>
            <a:ext cx="1807920" cy="2114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19520" y="4495680"/>
                      <a:ext cx="180792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0" name=""/>
            <p:cNvGraphicFramePr/>
            <p:nvPr/>
          </p:nvGraphicFramePr>
          <p:xfrm>
            <a:off x="5181480" y="4495680"/>
            <a:ext cx="1808280" cy="21146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81480" y="449568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2" name=""/>
            <p:cNvGraphicFramePr/>
            <p:nvPr/>
          </p:nvGraphicFramePr>
          <p:xfrm>
            <a:off x="5257800" y="2286000"/>
            <a:ext cx="1808280" cy="2114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03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57800" y="2286000"/>
                      <a:ext cx="1808280" cy="211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2819520" y="4495680"/>
          <a:ext cx="180792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19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533520" y="4495680"/>
          <a:ext cx="18079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495680"/>
                    <a:ext cx="18079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5257800" y="2286000"/>
          <a:ext cx="180828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5780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905120" y="76212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4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609480" y="2209680"/>
          <a:ext cx="180828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0968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2895480" y="2286000"/>
          <a:ext cx="180828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95480" y="2286000"/>
                    <a:ext cx="18082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5867280" y="685800"/>
            <a:ext cx="175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981080" y="838080"/>
            <a:ext cx="4191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 - 0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480" y="3048120"/>
            <a:ext cx="8001000" cy="2743200"/>
            <a:chOff x="609480" y="3048120"/>
            <a:chExt cx="8001000" cy="2743200"/>
          </a:xfrm>
        </p:grpSpPr>
        <p:graphicFrame>
          <p:nvGraphicFramePr>
            <p:cNvPr id="439" name=""/>
            <p:cNvGraphicFramePr/>
            <p:nvPr/>
          </p:nvGraphicFramePr>
          <p:xfrm>
            <a:off x="609480" y="3048120"/>
            <a:ext cx="160020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94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1" name=""/>
            <p:cNvGraphicFramePr/>
            <p:nvPr/>
          </p:nvGraphicFramePr>
          <p:xfrm>
            <a:off x="2743200" y="3048120"/>
            <a:ext cx="1600200" cy="1143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4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320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3" name=""/>
            <p:cNvGraphicFramePr/>
            <p:nvPr/>
          </p:nvGraphicFramePr>
          <p:xfrm>
            <a:off x="609480" y="4648320"/>
            <a:ext cx="1600200" cy="11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4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94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5" name=""/>
            <p:cNvGraphicFramePr/>
            <p:nvPr/>
          </p:nvGraphicFramePr>
          <p:xfrm>
            <a:off x="2743200" y="4648320"/>
            <a:ext cx="1600200" cy="11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74320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7" name=""/>
            <p:cNvGraphicFramePr/>
            <p:nvPr/>
          </p:nvGraphicFramePr>
          <p:xfrm>
            <a:off x="4876920" y="4648320"/>
            <a:ext cx="1600200" cy="1143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44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87692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49" name=""/>
            <p:cNvGraphicFramePr/>
            <p:nvPr/>
          </p:nvGraphicFramePr>
          <p:xfrm>
            <a:off x="4876920" y="3048120"/>
            <a:ext cx="1600200" cy="114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45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7692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1" name=""/>
            <p:cNvGraphicFramePr/>
            <p:nvPr/>
          </p:nvGraphicFramePr>
          <p:xfrm>
            <a:off x="7010280" y="4648320"/>
            <a:ext cx="1600200" cy="11430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7010280" y="46483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7010280" y="3048120"/>
            <a:ext cx="1600200" cy="114300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010280" y="3048120"/>
                      <a:ext cx="160020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5" name=""/>
          <p:cNvSpPr/>
          <p:nvPr/>
        </p:nvSpPr>
        <p:spPr>
          <a:xfrm>
            <a:off x="5867280" y="838080"/>
            <a:ext cx="1524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8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2320" y="3733920"/>
          <a:ext cx="1785960" cy="159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1785960" cy="15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76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91440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5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2590920"/>
            <a:ext cx="1862280" cy="3655800"/>
            <a:chOff x="457200" y="2590920"/>
            <a:chExt cx="1862280" cy="3655800"/>
          </a:xfrm>
        </p:grpSpPr>
        <p:graphicFrame>
          <p:nvGraphicFramePr>
            <p:cNvPr id="82" name=""/>
            <p:cNvGraphicFramePr/>
            <p:nvPr/>
          </p:nvGraphicFramePr>
          <p:xfrm>
            <a:off x="533520" y="4648320"/>
            <a:ext cx="1785960" cy="159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520" y="46483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457200" y="2590920"/>
            <a:ext cx="1785960" cy="1598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2590920"/>
                      <a:ext cx="1785960" cy="159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"/>
          <p:cNvSpPr/>
          <p:nvPr/>
        </p:nvSpPr>
        <p:spPr>
          <a:xfrm>
            <a:off x="5638680" y="838080"/>
            <a:ext cx="1600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57200" y="2514600"/>
            <a:ext cx="4697280" cy="3297240"/>
            <a:chOff x="457200" y="2514600"/>
            <a:chExt cx="4697280" cy="3297240"/>
          </a:xfrm>
        </p:grpSpPr>
        <p:graphicFrame>
          <p:nvGraphicFramePr>
            <p:cNvPr id="89" name=""/>
            <p:cNvGraphicFramePr/>
            <p:nvPr/>
          </p:nvGraphicFramePr>
          <p:xfrm>
            <a:off x="457200" y="2514600"/>
            <a:ext cx="1268280" cy="1544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2133720" y="2514600"/>
            <a:ext cx="1268280" cy="15447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33720" y="251460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533520" y="4267080"/>
            <a:ext cx="1268280" cy="1544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335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" name=""/>
            <p:cNvGraphicFramePr/>
            <p:nvPr/>
          </p:nvGraphicFramePr>
          <p:xfrm>
            <a:off x="2133720" y="4267080"/>
            <a:ext cx="1268280" cy="154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3886200" y="4267080"/>
            <a:ext cx="1268280" cy="154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4267080"/>
                      <a:ext cx="126828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3809880" y="2514600"/>
            <a:ext cx="1268640" cy="154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09880" y="2514600"/>
                      <a:ext cx="1268640" cy="15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133720" y="4267080"/>
          <a:ext cx="126828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37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33520" y="4267080"/>
          <a:ext cx="126828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426708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95280" y="762120"/>
            <a:ext cx="4648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6 - 3 =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514600"/>
          <a:ext cx="126828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133720" y="2514600"/>
          <a:ext cx="1268280" cy="154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514600"/>
                    <a:ext cx="126828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9880" y="2514600"/>
          <a:ext cx="1268640" cy="1544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2514600"/>
                    <a:ext cx="126864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181480" y="68580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GillEdOUPTTPC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24:35Z</dcterms:created>
  <dc:creator>Veronica</dc:creator>
  <dc:description/>
  <dc:language>en-US</dc:language>
  <cp:lastModifiedBy>Veronica</cp:lastModifiedBy>
  <dcterms:modified xsi:type="dcterms:W3CDTF">2001-02-17T11:58:53Z</dcterms:modified>
  <cp:revision>19</cp:revision>
  <dc:subject/>
  <dc:title>No Slide Title</dc:title>
</cp:coreProperties>
</file>