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F34-1663-4A8B-8FA6-09F195DE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DC4-4818-44F2-B7D8-7CC1EC7C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A2E-153F-4F3A-BB10-13383F31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815-5058-498E-B65C-42EC85B6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172-D773-4D03-8B13-AAA0F3E1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387-D1CF-4CBB-99CE-C99B5DB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BD1-7B7B-4D3A-9422-A4943466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9E5-9807-4607-A414-C5A495AA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93E-40FD-44F7-8B93-9E7F3206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085-C2F7-4EBA-AB49-CE870AB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853-DC07-4CF8-9BF2-AC85578C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D89-95F9-4EBB-88A8-A3EE2BA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7280-C2DC-485B-B4CC-46CFB8C00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more and l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267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3200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124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enguin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4343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mo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9625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3048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20968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040240" y="60948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35812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286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5335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enguin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2096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enguin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811640" y="53352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971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nguin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40240" y="45720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200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3276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2004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2209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419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1240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32004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2:53:30Z</dcterms:created>
  <dc:creator>Mairi Egger</dc:creator>
  <dc:description/>
  <dc:language>en-US</dc:language>
  <cp:lastModifiedBy>Mairi Egger</cp:lastModifiedBy>
  <dcterms:modified xsi:type="dcterms:W3CDTF">2003-04-05T07:10:28Z</dcterms:modified>
  <cp:revision>5</cp:revision>
  <dc:subject/>
  <dc:title>More and less</dc:title>
</cp:coreProperties>
</file>