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382-4629-4F1A-A770-A2035E0C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B09-544A-423F-847E-212E04AA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798-FB20-4A0C-B378-C8ED21ED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76E-DFA2-463D-99D9-09C8C157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413-2D53-4EEC-AFF4-9D078E33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16E-041A-4FE1-8E9D-E38F6777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955-EDF8-4B16-B669-47D63927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185-DF15-4125-9F78-AE00B6E7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A1B-EF50-4E3A-854F-A644A48C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725-3BA6-4736-89E3-84CB64EA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C2C-ED77-4664-8A3A-61CB2F01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ADC-F3A8-415F-859C-F31E661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1BCB-2F47-4DF9-8734-E3A8089CB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More and l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39625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200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3048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22096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22096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276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32004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2209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4419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267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200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124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5812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22860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2971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1911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1240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2004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2:53:30Z</dcterms:created>
  <dc:creator>Mairi Egger</dc:creator>
  <dc:description/>
  <dc:language>en-US</dc:language>
  <cp:lastModifiedBy>Mairi Egger</cp:lastModifiedBy>
  <dcterms:modified xsi:type="dcterms:W3CDTF">2003-03-16T13:06:23Z</dcterms:modified>
  <cp:revision>1</cp:revision>
  <dc:subject/>
  <dc:title>More and less</dc:title>
</cp:coreProperties>
</file>