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A2C4-9A13-4418-BED1-AEAB56E3B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laugh%20track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laugh%20track.wav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53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35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53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57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3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6 x 7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2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7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2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7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2535" fill="hold"/>
                                        <p:tgtEl>
                                          <p:spTgt spid="8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5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9 x 8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lesden Primary Schoo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21920" y="5851440"/>
            <a:ext cx="6901560" cy="1006560"/>
            <a:chOff x="1321920" y="5851440"/>
            <a:chExt cx="6901560" cy="1006560"/>
          </a:xfrm>
        </p:grpSpPr>
        <p:sp>
          <p:nvSpPr>
            <p:cNvPr id="11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3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6461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1 x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GB" sz="4000" spc="-1" strike="noStrike">
                <a:solidFill>
                  <a:srgbClr val="ffffff"/>
                </a:solidFill>
                <a:latin typeface="MS Reference 2"/>
                <a:ea typeface="MS Reference 2"/>
              </a:rPr>
              <a:t>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of 20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4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75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200"/>
                            </p:stCondLst>
                            <p:childTnLst>
                              <p:par>
                                <p:cTn id="47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2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1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product of 12 x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5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4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5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square root of  81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1" fill="hold"/>
                                        <p:tgtEl>
                                          <p:spTgt spid="19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" fill="hold"/>
                                        <p:tgtEl>
                                          <p:spTgt spid="1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1" fill="hold"/>
                                        <p:tgtEl>
                                          <p:spTgt spid="1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0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8" dur="1" fill="hold"/>
                                        <p:tgtEl>
                                          <p:spTgt spid="20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8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0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3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485640" y="1415880"/>
            <a:ext cx="794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YOU WIN £1 MILLION Pound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1" fill="hold"/>
                                        <p:tgtEl>
                                          <p:spTgt spid="20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42" name=""/>
          <p:cNvSpPr/>
          <p:nvPr/>
        </p:nvSpPr>
        <p:spPr>
          <a:xfrm>
            <a:off x="121932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Incor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 x 9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3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4 x 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E Campta</dc:creator>
  <dc:description/>
  <dc:language>en-US</dc:language>
  <cp:lastModifiedBy>Mike Freedman</cp:lastModifiedBy>
  <dcterms:modified xsi:type="dcterms:W3CDTF">2005-05-18T16:17:51Z</dcterms:modified>
  <cp:revision>27</cp:revision>
  <dc:subject/>
  <dc:title>Who wants to millionaire Multiplications</dc:title>
</cp:coreProperties>
</file>