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2D40-7290-4779-802C-CD99D7CD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A15-E3F5-42DA-A9E9-D4252D7E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7366-C9B6-4270-A2F1-C09C7006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D4B-3730-4D1A-8D9F-803E8EE0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746-119A-4155-BB00-BB74282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EDD-9BCE-47AC-B1DB-4B90856B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1D44-E58C-492D-8346-9CD6BAD4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68F-02C8-4487-B518-A911AB89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C5-50FA-4830-9261-B7662CEE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EC2-4B7C-4A89-814B-E1625326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D2A-6A27-4783-A0E9-0392C56A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E2F-3FF9-4808-912F-556A700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583-6125-40A4-99A6-01DF0A22C0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0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7040" y="228240"/>
            <a:ext cx="102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9Z</dcterms:modified>
  <cp:revision>3</cp:revision>
  <dc:subject/>
  <dc:title>How Much ?</dc:title>
</cp:coreProperties>
</file>