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9C3D-377C-483E-B737-0444DE1D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Read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unt how many things are in the group that appears next and link to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As further pictures appear count on from the number that has been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Check your answer with the one tha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Re-read the complet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Show same sum on fingers (if answer is less than 10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788-960D-4D8C-944F-517F7E4B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115-0DD9-4A5D-9B04-5232EE2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CE1-B142-4DD4-A4B1-02231DB0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239-5ECE-4E3D-8A0C-3ACBC44A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560-0B4B-48BC-B0E2-DB617DA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262-D367-47FC-B791-DEAEC50A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E19-4AE4-48EE-BE81-86985899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746-A85D-4A39-8752-954C613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AE6-517F-47C1-835E-3FB313D1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AA3-6BC0-4120-A91B-BFAB858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3AC-4139-4257-8F0D-4D0C0A6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940-F7E5-4594-9696-18A883C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D307-3C1B-482B-B39C-31BCB292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3720" y="8380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762120"/>
            <a:ext cx="2133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2590920"/>
            <a:ext cx="1965240" cy="3657600"/>
            <a:chOff x="533520" y="2590920"/>
            <a:chExt cx="1965240" cy="3657600"/>
          </a:xfrm>
        </p:grpSpPr>
        <p:graphicFrame>
          <p:nvGraphicFramePr>
            <p:cNvPr id="204" name=""/>
            <p:cNvGraphicFramePr/>
            <p:nvPr/>
          </p:nvGraphicFramePr>
          <p:xfrm>
            <a:off x="533520" y="2590920"/>
            <a:ext cx="4413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295280" y="2590920"/>
            <a:ext cx="441360" cy="16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2057400" y="2590920"/>
            <a:ext cx="441360" cy="16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533520" y="4572000"/>
            <a:ext cx="441360" cy="167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295280" y="4572000"/>
            <a:ext cx="44136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2057400" y="4572000"/>
            <a:ext cx="441360" cy="167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6" name=""/>
          <p:cNvGraphicFramePr/>
          <p:nvPr/>
        </p:nvGraphicFramePr>
        <p:xfrm>
          <a:off x="4419720" y="4648320"/>
          <a:ext cx="441360" cy="167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105520" y="4648320"/>
          <a:ext cx="441360" cy="16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419720" y="2590920"/>
          <a:ext cx="441360" cy="16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05520" y="2590920"/>
          <a:ext cx="441360" cy="167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524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76212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8600" y="2590920"/>
            <a:ext cx="3095640" cy="3254400"/>
            <a:chOff x="228600" y="2590920"/>
            <a:chExt cx="3095640" cy="3254400"/>
          </a:xfrm>
        </p:grpSpPr>
        <p:graphicFrame>
          <p:nvGraphicFramePr>
            <p:cNvPr id="227" name=""/>
            <p:cNvGraphicFramePr/>
            <p:nvPr/>
          </p:nvGraphicFramePr>
          <p:xfrm>
            <a:off x="1295280" y="2590920"/>
            <a:ext cx="962280" cy="96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590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2362320" y="2590920"/>
            <a:ext cx="961920" cy="9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228600" y="2590920"/>
            <a:ext cx="961920" cy="96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2362320" y="3733920"/>
            <a:ext cx="961920" cy="968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6232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295280" y="3733920"/>
            <a:ext cx="962280" cy="968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228600" y="3733920"/>
            <a:ext cx="961920" cy="96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1295280" y="4876920"/>
            <a:ext cx="962280" cy="968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95280" y="4876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28600" y="4876920"/>
            <a:ext cx="961920" cy="968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2362320" y="4876920"/>
            <a:ext cx="961920" cy="96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232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" name=""/>
          <p:cNvGraphicFramePr/>
          <p:nvPr/>
        </p:nvGraphicFramePr>
        <p:xfrm>
          <a:off x="3886200" y="4876920"/>
          <a:ext cx="96192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76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886200" y="3733920"/>
          <a:ext cx="961920" cy="968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3733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2590920"/>
          <a:ext cx="961920" cy="968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6200" y="2590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662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914400"/>
            <a:ext cx="9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200400"/>
            <a:ext cx="2503440" cy="2162160"/>
            <a:chOff x="457200" y="3200400"/>
            <a:chExt cx="2503440" cy="2162160"/>
          </a:xfrm>
        </p:grpSpPr>
        <p:graphicFrame>
          <p:nvGraphicFramePr>
            <p:cNvPr id="53" name=""/>
            <p:cNvGraphicFramePr/>
            <p:nvPr/>
          </p:nvGraphicFramePr>
          <p:xfrm>
            <a:off x="533520" y="3200400"/>
            <a:ext cx="105552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1066680" y="4038480"/>
            <a:ext cx="105588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038480"/>
                      <a:ext cx="10558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457200" y="4800600"/>
            <a:ext cx="105552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1905120" y="4800600"/>
            <a:ext cx="105552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512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828800" y="3200400"/>
            <a:ext cx="105552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" name=""/>
          <p:cNvGraphicFramePr/>
          <p:nvPr/>
        </p:nvGraphicFramePr>
        <p:xfrm>
          <a:off x="3809880" y="4114800"/>
          <a:ext cx="105588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4114800"/>
                    <a:ext cx="1055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 rot="10800000">
          <a:off x="3809880" y="3276360"/>
          <a:ext cx="105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0800000">
                    <a:off x="3809880" y="3276360"/>
                    <a:ext cx="105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990720"/>
            <a:ext cx="51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1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91440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3429000"/>
            <a:ext cx="2816280" cy="2416320"/>
            <a:chOff x="304920" y="3429000"/>
            <a:chExt cx="2816280" cy="2416320"/>
          </a:xfrm>
        </p:grpSpPr>
        <p:graphicFrame>
          <p:nvGraphicFramePr>
            <p:cNvPr id="70" name=""/>
            <p:cNvGraphicFramePr/>
            <p:nvPr/>
          </p:nvGraphicFramePr>
          <p:xfrm>
            <a:off x="304920" y="3429000"/>
            <a:ext cx="9111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4290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880" y="4191120"/>
            <a:ext cx="911520" cy="73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1911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57200" y="5029200"/>
            <a:ext cx="91116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50292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371600" y="4496040"/>
            <a:ext cx="91116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449604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1295280" y="3733920"/>
            <a:ext cx="9115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2209680" y="4343400"/>
            <a:ext cx="911520" cy="73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09680" y="434340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209680" y="5105520"/>
            <a:ext cx="911520" cy="739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9680" y="51055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2057400" y="3505320"/>
            <a:ext cx="911160" cy="739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7400" y="350532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3962520" y="3657600"/>
          <a:ext cx="911160" cy="73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3657600"/>
                    <a:ext cx="911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3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914400"/>
            <a:ext cx="53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47920" y="2819520"/>
            <a:ext cx="1371600" cy="2998800"/>
            <a:chOff x="1447920" y="2819520"/>
            <a:chExt cx="1371600" cy="2998800"/>
          </a:xfrm>
        </p:grpSpPr>
        <p:graphicFrame>
          <p:nvGraphicFramePr>
            <p:cNvPr id="91" name=""/>
            <p:cNvGraphicFramePr/>
            <p:nvPr/>
          </p:nvGraphicFramePr>
          <p:xfrm>
            <a:off x="1523880" y="2819520"/>
            <a:ext cx="129564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8195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523880" y="3505320"/>
            <a:ext cx="129564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5053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1523880" y="4114800"/>
            <a:ext cx="129564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11480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1523880" y="4724280"/>
            <a:ext cx="129564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4724280"/>
                      <a:ext cx="129564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1447920" y="5410080"/>
            <a:ext cx="1295280" cy="40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7920" y="5410080"/>
                      <a:ext cx="129528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1" name=""/>
          <p:cNvGraphicFramePr/>
          <p:nvPr/>
        </p:nvGraphicFramePr>
        <p:xfrm>
          <a:off x="4114800" y="4191120"/>
          <a:ext cx="129528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4191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4800" y="3581280"/>
          <a:ext cx="129528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3581280"/>
                    <a:ext cx="1295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3048120"/>
          <a:ext cx="129528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99072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99072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971800"/>
            <a:ext cx="1600200" cy="3666960"/>
            <a:chOff x="685800" y="2971800"/>
            <a:chExt cx="1600200" cy="3666960"/>
          </a:xfrm>
        </p:grpSpPr>
        <p:graphicFrame>
          <p:nvGraphicFramePr>
            <p:cNvPr id="110" name=""/>
            <p:cNvGraphicFramePr/>
            <p:nvPr/>
          </p:nvGraphicFramePr>
          <p:xfrm>
            <a:off x="762120" y="2971800"/>
            <a:ext cx="15238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97180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762120" y="3809880"/>
            <a:ext cx="152388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98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85800" y="4648320"/>
            <a:ext cx="1523880" cy="100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64832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762120" y="5638680"/>
            <a:ext cx="15238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56386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8" name=""/>
          <p:cNvGraphicFramePr/>
          <p:nvPr/>
        </p:nvGraphicFramePr>
        <p:xfrm>
          <a:off x="3352680" y="4191120"/>
          <a:ext cx="152424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19112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352680" y="3124080"/>
          <a:ext cx="152424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312408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91440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2971800"/>
            <a:ext cx="2210040" cy="3389400"/>
            <a:chOff x="838080" y="2971800"/>
            <a:chExt cx="2210040" cy="33894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38080" y="510552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1447920" y="5791320"/>
              <a:ext cx="990360" cy="5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0" name=""/>
            <p:cNvGraphicFramePr/>
            <p:nvPr/>
          </p:nvGraphicFramePr>
          <p:xfrm>
            <a:off x="2057400" y="5105520"/>
            <a:ext cx="990720" cy="569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5105520"/>
                      <a:ext cx="99072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05740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5740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05740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5" name=""/>
          <p:cNvGraphicFramePr/>
          <p:nvPr/>
        </p:nvGraphicFramePr>
        <p:xfrm>
          <a:off x="4038480" y="4648320"/>
          <a:ext cx="99072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6483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038480" y="3733920"/>
          <a:ext cx="9907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37339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914400"/>
            <a:ext cx="487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3048120"/>
            <a:ext cx="2743200" cy="3500280"/>
            <a:chOff x="0" y="3048120"/>
            <a:chExt cx="2743200" cy="3500280"/>
          </a:xfrm>
        </p:grpSpPr>
        <p:graphicFrame>
          <p:nvGraphicFramePr>
            <p:cNvPr id="142" name=""/>
            <p:cNvGraphicFramePr/>
            <p:nvPr/>
          </p:nvGraphicFramePr>
          <p:xfrm>
            <a:off x="0" y="3048120"/>
            <a:ext cx="1371600" cy="113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048120"/>
                      <a:ext cx="1371600" cy="11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371600" y="3048120"/>
              <a:ext cx="13716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137160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137160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114800" y="5410080"/>
          <a:ext cx="137160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5410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38480" y="4267080"/>
          <a:ext cx="137160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38480" y="4267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38480" y="3124080"/>
          <a:ext cx="1371600" cy="113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3124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762120"/>
            <a:ext cx="518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685800"/>
            <a:ext cx="2209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191120" y="5562720"/>
          <a:ext cx="1055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562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4419720"/>
          <a:ext cx="1055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419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91120" y="3276720"/>
          <a:ext cx="1055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276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14800" y="2133720"/>
          <a:ext cx="10555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133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85800" y="2133720"/>
            <a:ext cx="2274840" cy="4495680"/>
            <a:chOff x="685800" y="2133720"/>
            <a:chExt cx="2274840" cy="4495680"/>
          </a:xfrm>
        </p:grpSpPr>
        <p:graphicFrame>
          <p:nvGraphicFramePr>
            <p:cNvPr id="166" name=""/>
            <p:cNvGraphicFramePr/>
            <p:nvPr/>
          </p:nvGraphicFramePr>
          <p:xfrm>
            <a:off x="1828800" y="2133720"/>
            <a:ext cx="1055520" cy="1066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85800" y="3276720"/>
            <a:ext cx="1055520" cy="1066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1828800" y="3276720"/>
            <a:ext cx="105552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28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85800" y="4419720"/>
            <a:ext cx="1055520" cy="1066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5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1828800" y="4419720"/>
            <a:ext cx="1055520" cy="1066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28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85800" y="5562720"/>
            <a:ext cx="1055520" cy="106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580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1905120" y="5562720"/>
            <a:ext cx="1055520" cy="1066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512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685800" y="2133720"/>
            <a:ext cx="1055520" cy="1066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1440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666880"/>
            <a:ext cx="2666880" cy="3897360"/>
            <a:chOff x="304920" y="2666880"/>
            <a:chExt cx="2666880" cy="389736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0492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82880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30492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0" name=""/>
            <p:cNvGraphicFramePr/>
            <p:nvPr/>
          </p:nvGraphicFramePr>
          <p:xfrm>
            <a:off x="1143000" y="5638680"/>
            <a:ext cx="1143000" cy="92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638680"/>
                      <a:ext cx="1143000" cy="92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38088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4038480" y="5715000"/>
          <a:ext cx="114300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71500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038480" y="4724280"/>
          <a:ext cx="114300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72428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962520" y="3733920"/>
          <a:ext cx="1143000" cy="92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37339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2819520"/>
          <a:ext cx="1143000" cy="92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8195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9:48:12Z</dcterms:created>
  <dc:creator>Veronica</dc:creator>
  <dc:description/>
  <dc:language>en-US</dc:language>
  <cp:lastModifiedBy>Veronica</cp:lastModifiedBy>
  <dcterms:modified xsi:type="dcterms:W3CDTF">2001-02-17T11:32:53Z</dcterms:modified>
  <cp:revision>20</cp:revision>
  <dc:subject/>
  <dc:title>No Slide Title</dc:title>
</cp:coreProperties>
</file>