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035-FBEB-493A-8659-3A5B99F8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A0D-4718-4FF9-B229-9EBDBF08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64C-9B27-4DA3-BE5D-C6EC7AAB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D75-F4C0-4A64-803C-3AF4DE48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89C3-E96B-45C8-99C3-F692EF8C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877D-3A8D-46D6-B1DE-FA761F76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2FEE-7AF9-430B-B0BE-97C6124C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7B91-6F28-4DAB-90CB-C30E8DB7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8FB7-8D92-4648-B365-EEF487AA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D961-1DE7-47BC-9E60-C5C55C25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2122-2C51-4B00-9999-51EF62EC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3A4-9767-4E2F-8379-447AB2AF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539F-C83E-4E24-8017-C897C2B2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209A-1D4F-4671-A502-EB4E9710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76AA-FFBD-4F21-9101-47862A44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4A34-CA61-4FD8-91A2-F189FD63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CE02-98D8-4CEF-9D68-A89B5232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5DA-3EE7-4E26-AE3C-EFE48795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C42-FCBA-48CD-A19B-5DB2D326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C6C-C2EF-4EB5-A8DB-D5CF8FE9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4B0-0A90-4599-A5CA-7F601830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87F-A2A1-4D72-BD77-74BD2ED7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78A-62CF-40BD-A448-2B6B028D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2EA-941A-4213-968C-02351393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4435-00AB-42F8-B253-A70F4F191C2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9C16-1374-4753-88BB-F2947FF2EEF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hyperlink" Target="http://images.google.co.uk/imgres?imgurl=http://www.klipp-lischner.net/arthur/pictures/weigh-in.jpg&amp;imgrefurl=http://www.klipp-lischner.net/arthur/pictures.cgi%3Fsortby%3Dtime&amp;h=597&amp;w=883&amp;sz=24&amp;tbnid=-fHo5SgoV0EJ:&amp;tbnh=98&amp;tbnw=144&amp;start=7&amp;prev=/images%3Fq%3Dweigh%26hl%3Den%26lr%3D%26sa%3DG" TargetMode="External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9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7d47d"/>
                </a:solidFill>
                <a:latin typeface="Arial"/>
              </a:rPr>
              <a:t>ie and ei words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BC font"/>
              </a:rPr>
              <a:t>Are there any rules which would help us learn, which grapheme to use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7d47d"/>
                </a:solidFill>
                <a:latin typeface="ABC font"/>
              </a:rPr>
              <a:t>These words are spelt with ei. You can tell because the ei sounds a little like capital ‘A’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Eigh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Rei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eig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Vei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Veil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freight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reig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neighbou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00720" y="2205000"/>
            <a:ext cx="26650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7d47d"/>
                </a:solidFill>
                <a:latin typeface="Arial"/>
              </a:rPr>
              <a:t>Now here comes a rule:</a:t>
            </a:r>
            <a:br>
              <a:rPr sz="3600"/>
            </a:br>
            <a:r>
              <a:rPr b="1" lang="en-GB" sz="3600" spc="-1" strike="noStrike">
                <a:solidFill>
                  <a:srgbClr val="f7d47d"/>
                </a:solidFill>
                <a:latin typeface="Arial"/>
              </a:rPr>
              <a:t>I before e </a:t>
            </a:r>
            <a:r>
              <a:rPr b="1" i="1" lang="en-GB" sz="3600" spc="-1" strike="noStrike">
                <a:solidFill>
                  <a:srgbClr val="f7d47d"/>
                </a:solidFill>
                <a:latin typeface="Arial"/>
              </a:rPr>
              <a:t>except</a:t>
            </a:r>
            <a:r>
              <a:rPr b="1" lang="en-GB" sz="3600" spc="-1" strike="noStrike">
                <a:solidFill>
                  <a:srgbClr val="f7d47d"/>
                </a:solidFill>
                <a:latin typeface="Arial"/>
              </a:rPr>
              <a:t> after c, if the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ei</a:t>
            </a:r>
            <a:r>
              <a:rPr b="1" lang="en-GB" sz="3600" spc="-1" strike="noStrike">
                <a:solidFill>
                  <a:srgbClr val="f7d47d"/>
                </a:solidFill>
                <a:latin typeface="Arial"/>
              </a:rPr>
              <a:t> rhymes with be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Re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Recei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l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De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on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Con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t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De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dec</a:t>
            </a:r>
            <a:r>
              <a:rPr b="0" lang="en-GB" sz="28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tfu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1311"/>
                </a:solidFill>
                <a:latin typeface="Arial"/>
              </a:rPr>
              <a:t>But don’t be fooled some words break this rule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cience, glacier and ancient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5076720" y="1628640"/>
            <a:ext cx="13874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7d47d"/>
                </a:solidFill>
                <a:latin typeface="Arial"/>
              </a:rPr>
              <a:t>These ei words don’t follow a rule so you just have to </a:t>
            </a:r>
            <a:r>
              <a:rPr b="1" lang="en-GB" sz="3600" spc="-1" strike="noStrike" u="sng">
                <a:solidFill>
                  <a:srgbClr val="f7d47d"/>
                </a:solidFill>
                <a:uFillTx/>
                <a:latin typeface="Arial"/>
              </a:rPr>
              <a:t>learn them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h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h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w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r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prot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h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gh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for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g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sover</a:t>
            </a:r>
            <a:r>
              <a:rPr b="0" lang="en-GB" sz="3200" spc="-1" strike="noStrike">
                <a:solidFill>
                  <a:srgbClr val="f7d47d"/>
                </a:solidFill>
                <a:latin typeface="Arial"/>
              </a:rPr>
              <a:t>ei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g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4643280" y="1684440"/>
            <a:ext cx="208944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7d47d"/>
                </a:solidFill>
                <a:uFillTx/>
                <a:latin typeface="ABC font"/>
              </a:rPr>
              <a:t>Thes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BC font"/>
              </a:rPr>
              <a:t>ie</a:t>
            </a:r>
            <a:r>
              <a:rPr b="0" lang="en-GB" sz="3200" spc="-1" strike="noStrike" u="sng">
                <a:solidFill>
                  <a:srgbClr val="f7d47d"/>
                </a:solidFill>
                <a:uFillTx/>
                <a:latin typeface="ABC font"/>
              </a:rPr>
              <a:t> words are straight forward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Br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Bel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Bel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Bel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Ch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Handkerch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Gr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Gr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Misch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f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Ach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v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S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Bes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g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P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Mantelp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Pr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s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shr</a:t>
            </a:r>
            <a:r>
              <a:rPr b="0" lang="en-GB" sz="2800" spc="-1" strike="noStrike">
                <a:solidFill>
                  <a:srgbClr val="ffffff"/>
                </a:solidFill>
                <a:latin typeface="ABC font"/>
              </a:rPr>
              <a:t>ie</a:t>
            </a:r>
            <a:r>
              <a:rPr b="0" lang="en-GB" sz="2800" spc="-1" strike="noStrike">
                <a:solidFill>
                  <a:srgbClr val="2f1311"/>
                </a:solidFill>
                <a:latin typeface="ABC font"/>
              </a:rPr>
              <a:t>k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7d47d"/>
                </a:solidFill>
                <a:latin typeface="ABC font"/>
              </a:rPr>
              <a:t>Now wipe boards and pens at the ready? Scan the text and spot all the </a:t>
            </a:r>
            <a:r>
              <a:rPr b="0" lang="en-GB" sz="2400" spc="-1" strike="noStrike">
                <a:solidFill>
                  <a:srgbClr val="ffffff"/>
                </a:solidFill>
                <a:latin typeface="ABC font"/>
              </a:rPr>
              <a:t>ie/ei</a:t>
            </a:r>
            <a:r>
              <a:rPr b="0" lang="en-GB" sz="2400" spc="-1" strike="noStrike">
                <a:solidFill>
                  <a:srgbClr val="f7d47d"/>
                </a:solidFill>
                <a:latin typeface="ABC font"/>
              </a:rPr>
              <a:t> words you can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2f1311"/>
                </a:solidFill>
                <a:uFillTx/>
                <a:latin typeface="Arial"/>
              </a:rPr>
              <a:t>Brief Sieg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Mrs Elizabeth Carver, niece of the Chief of Police, was besieged by wasps in her home yesterday. A ceiling fell down and knocked off an old mantelpiece. Hundreds of wasps flew out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She shielded her face with a handkerchief and dialled 999. She gave a piercing shriek into the phon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Send the police. Believe me, these wasps will kill me if you don’t.”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f1311"/>
                </a:solidFill>
                <a:latin typeface="Arial"/>
              </a:rPr>
              <a:t>The Chief of Police received the call and rushed to relieve he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7d47d"/>
                </a:solidFill>
                <a:uFillTx/>
                <a:latin typeface="Arial"/>
              </a:rPr>
              <a:t>Well how did you do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2f1311"/>
                </a:solidFill>
                <a:uFillTx/>
                <a:latin typeface="ABC font"/>
              </a:rPr>
              <a:t>There were 12 in al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Nie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Chie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besieg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Ceilin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Mantelpiec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Shield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Handkerchief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Piercin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Shrie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Believ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Receive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Reliev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1311"/>
                </a:solidFill>
                <a:latin typeface="ABC font"/>
              </a:rPr>
              <a:t>Well done if you got them all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4356000" y="1628640"/>
            <a:ext cx="290664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21:54:59Z</dcterms:created>
  <dc:creator>Jane Armstrong</dc:creator>
  <dc:description/>
  <dc:language>en-US</dc:language>
  <cp:lastModifiedBy>Jane Armstrong</cp:lastModifiedBy>
  <dcterms:modified xsi:type="dcterms:W3CDTF">2005-01-01T22:30:28Z</dcterms:modified>
  <cp:revision>1</cp:revision>
  <dc:subject/>
  <dc:title>ie and ei words</dc:title>
</cp:coreProperties>
</file>