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FA0-56CE-4DF0-9D68-65715CE2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89E-C340-4D1C-8765-7B187DE7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570-449C-4B7B-BDFC-B0E7AA2F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CAB-0FE1-4FF6-8345-F8C92511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505D-4CE1-4CCB-99EE-79777E09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1E55-3B2E-4B0F-8823-DEE5ECE7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258D-25D1-493D-80C7-65388F5F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EC91-019D-4747-80E2-9657A166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C15B-88A7-40E0-8795-99394D73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D9F0-FB65-4853-BE88-C6E8ABA6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1116-84AB-4340-B361-8D639291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77FC-2703-4690-A4BD-88FD0A34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2B3D-A523-41E2-9B23-7C356B2B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D4CA-B7B3-4210-8D7B-9A5C5CD4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45DA-C851-4931-AA90-C9D32137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723A-7511-4905-9B3C-A069B3B4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B72C-97FA-4395-98B5-B5E30C83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FC0-B7F2-4BF9-828B-3DBBCED0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14A-855C-4564-9E14-ECDE05BF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7A6-F454-44B3-AC5E-6CFCD8FF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641-7D8D-4290-8BFA-29A64064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949-88E5-478F-B8DB-DC44D7F0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E09-0E12-4432-9230-8D74661A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57C-5B50-4E2A-AFE6-40F28EF5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D49B-8AF9-4C27-8FA8-0EE57395013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F534-16C8-459C-B863-EDD1E13A3A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Adding the Suffix ‘</a:t>
            </a: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ful</a:t>
            </a: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’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What rules do we need to remember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When ‘ful’ is added to a word as a suffix, only one l is us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art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beauti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delight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grate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help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hope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pain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peace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skil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success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thought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truth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waste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wil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BC font"/>
              </a:rPr>
              <a:t>wonder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The same applies to other words, normally having double ‘l’, when used as a prefix or a suffix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99ff"/>
                </a:solidFill>
                <a:latin typeface="Arial"/>
              </a:rPr>
              <a:t>Fulfil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99ff"/>
                </a:solidFill>
                <a:latin typeface="Arial"/>
              </a:rPr>
              <a:t>Skilful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99ff"/>
                </a:solidFill>
                <a:latin typeface="Arial"/>
              </a:rPr>
              <a:t>wilful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BC font"/>
              </a:rPr>
              <a:t>What do these word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3366"/>
                </a:solidFill>
                <a:latin typeface="ABC font"/>
              </a:rPr>
              <a:t>artful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3366"/>
                </a:solidFill>
                <a:latin typeface="ABC font"/>
              </a:rPr>
              <a:t>skilful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3366"/>
                </a:solidFill>
                <a:latin typeface="ABC font"/>
              </a:rPr>
              <a:t>wilful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00720" y="1771560"/>
            <a:ext cx="3733560" cy="50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Now get you wipe boards at the ready. Scan the text and write down all the </a:t>
            </a:r>
            <a:r>
              <a:rPr b="1" lang="en-GB" sz="3200" spc="-1" strike="noStrike">
                <a:solidFill>
                  <a:srgbClr val="ff6600"/>
                </a:solidFill>
                <a:latin typeface="ABC font"/>
              </a:rPr>
              <a:t>–ful</a:t>
            </a: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 words you can spo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3366"/>
                </a:solidFill>
                <a:uFillTx/>
                <a:latin typeface="Arial"/>
              </a:rPr>
              <a:t>Skilful Goal-keep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BC font"/>
              </a:rPr>
              <a:t>Scotland was successful in the European Cup on Saturday because of the skilful tactics of the goal keeper Bobby Martin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BC font"/>
              </a:rPr>
              <a:t>He played a wonderful game, although he received a painful knee injury in the first half. His team-mates were helpful and the crowd demonstrated that they were always hopeful of a win. The fans were peaceful and the other side were wasteful of the chances which came their way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66"/>
                </a:solidFill>
                <a:latin typeface="ABC font"/>
              </a:rPr>
              <a:t>Scotland will now meet Germany in the semi-final next Thursday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id you spot them all? There were 8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Success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Skil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Wonder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Pain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Help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Hope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Peace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Waste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3280" y="2852640"/>
            <a:ext cx="3810240" cy="2743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Turn </a:t>
            </a:r>
            <a:r>
              <a:rPr b="1" lang="en-GB" sz="3200" spc="-1" strike="noStrike">
                <a:solidFill>
                  <a:srgbClr val="ff6600"/>
                </a:solidFill>
                <a:latin typeface="ABC font"/>
              </a:rPr>
              <a:t>y</a:t>
            </a: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 at the end of a word into </a:t>
            </a:r>
            <a:r>
              <a:rPr b="1" lang="en-GB" sz="3200" spc="-1" strike="noStrike">
                <a:solidFill>
                  <a:srgbClr val="ff6600"/>
                </a:solidFill>
                <a:latin typeface="ABC font"/>
              </a:rPr>
              <a:t>i</a:t>
            </a:r>
            <a:r>
              <a:rPr b="1" lang="en-GB" sz="3200" spc="-1" strike="noStrike">
                <a:solidFill>
                  <a:srgbClr val="006666"/>
                </a:solidFill>
                <a:latin typeface="ABC font"/>
              </a:rPr>
              <a:t> when you add fu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BC font"/>
              </a:rPr>
              <a:t>Beau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BC font"/>
              </a:rPr>
              <a:t>Beaut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ff"/>
                </a:solidFill>
                <a:latin typeface="ABC font"/>
              </a:rPr>
              <a:t>Plen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ff"/>
                </a:solidFill>
                <a:latin typeface="ABC font"/>
              </a:rPr>
              <a:t>Plent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BC font"/>
              </a:rPr>
              <a:t>Fa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cc"/>
                </a:solidFill>
                <a:latin typeface="ABC font"/>
              </a:rPr>
              <a:t>Fanc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BC font"/>
              </a:rPr>
              <a:t>Mer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BC font"/>
              </a:rPr>
              <a:t>Merc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BC font"/>
              </a:rPr>
              <a:t>P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BC font"/>
              </a:rPr>
              <a:t>pitifu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22482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Now if </a:t>
            </a:r>
            <a:r>
              <a:rPr b="1" lang="en-GB" sz="3200" spc="-1" strike="noStrike" u="sng">
                <a:solidFill>
                  <a:srgbClr val="ff6600"/>
                </a:solidFill>
                <a:uFillTx/>
                <a:latin typeface="Arial"/>
              </a:rPr>
              <a:t>ly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 to a word which already ends in ‘l’, then the ‘l’ is doubl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e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beauti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hope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success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truth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wonderfu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skilfull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and so 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TASK: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ABC font"/>
              </a:rPr>
              <a:t>Can you write a complex sentence that includes one or more of these word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708360" y="2565360"/>
            <a:ext cx="1486080" cy="1905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38760" y="3778200"/>
            <a:ext cx="279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20:43:50Z</dcterms:created>
  <dc:creator>Jane Armstrong</dc:creator>
  <dc:description/>
  <dc:language>en-US</dc:language>
  <cp:lastModifiedBy>Jane Armstrong</cp:lastModifiedBy>
  <dcterms:modified xsi:type="dcterms:W3CDTF">2005-01-01T21:19:55Z</dcterms:modified>
  <cp:revision>4</cp:revision>
  <dc:subject/>
  <dc:title>Adding the Suffix ‘ful’</dc:title>
</cp:coreProperties>
</file>