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AC9-2C33-4048-9D9F-5839175A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78C-2602-4334-B208-010679A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F63-6635-4801-B067-34A1EECB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BED-DC20-4064-A106-FEB441F3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01CEC-A460-41E8-A243-E5AAE505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843DC-E1D9-4597-B193-92F34D48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EF665-0568-4AAD-BF76-DD1E4846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1FC0E-58F0-41DD-9793-CD8F09A4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44F34-8AE2-42EB-8574-F544CFE7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664B0-80EF-4D24-973A-49AC4A8C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BB8D2-9B85-45FE-BDB3-AA713704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3D5-CBEB-4A4A-A9BD-0A97BA5A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35F0E-7776-4938-A9F3-B369CA9C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DB4DD-2D76-4131-A3A4-CA8DD150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CB6A1-0ED1-40A4-A199-FFF35539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0E64D-38F9-4010-A6B2-002C516F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11F96-915A-405E-BF6B-1571E4EB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48F-1EDA-4339-9016-134D21F3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4B8A-2304-4165-A3AA-50AE6690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45A-8117-46F1-9F44-DEE233B6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0DA-ECD5-4078-B509-6334A9A8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63C-2996-4858-B4AE-1D051C16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D88-9D08-4915-9E97-DE0F1B7B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49C-B67E-4232-9145-DFA94685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5477-8D99-44CF-A5BB-6464A0854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92AB-4DB6-4EB9-B2BA-93776EEB7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ords containing ‘-ie’ and ‘-cei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you group the following words and make observations as to any patterns you obser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Here they ar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ce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ie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l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e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l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l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tr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ch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i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ie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e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hie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ie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here is an old spelling ru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cc00"/>
                </a:solidFill>
                <a:latin typeface="Tahoma"/>
              </a:rPr>
              <a:t>i before e except after c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d you find any exceptions to this ru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hat phonemes do these graphemes repres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cc00"/>
                </a:solidFill>
                <a:latin typeface="Tahoma"/>
              </a:rPr>
              <a:t>ei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c600"/>
                </a:solidFill>
                <a:latin typeface="Tahoma"/>
              </a:rPr>
              <a:t>cei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1:04:36Z</dcterms:created>
  <dc:creator>Jane Armstrong</dc:creator>
  <dc:description/>
  <dc:language>en-US</dc:language>
  <cp:lastModifiedBy>Jane Armstrong</cp:lastModifiedBy>
  <dcterms:modified xsi:type="dcterms:W3CDTF">2005-01-01T11:17:36Z</dcterms:modified>
  <cp:revision>1</cp:revision>
  <dc:subject/>
  <dc:title>Words containing ‘-ie’ and ‘-cei’</dc:title>
</cp:coreProperties>
</file>