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4B24-80C6-44BC-AD79-21D8387D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FDCF-0CAB-4E42-B9D3-35368F5B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9CD8-345A-4CB9-BBD8-7A2A36AC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D9E5-5105-4C80-95A4-33ED8033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47C7-D25C-41D9-9FEA-E5FA15CC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6B0D-4474-4882-A8B0-55FE9CFA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DCEC-5161-443D-BF89-E90742B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FA34-20DB-4496-B0D8-1304B903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AC5E-8298-4B87-B772-3D5E9CF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3467-E4F2-49FC-AC4F-C2A4D919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0115-6488-4A98-B56A-53CBECA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391E-75CC-4B73-813B-3850D766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1F84-C4C4-47FD-922D-EBC3083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E5BA-495C-4362-84DC-8B559BC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13A-D905-4519-91C8-E4FFF7C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A397-FB1D-4D0E-94C2-D4423B53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7DC7-3FC8-49A6-A85E-6EE05831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4451-CEFE-42E3-A3EE-6160D3A7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4DC2-FDF2-4498-8F95-69D8C90D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5A21-7F98-41D8-B237-6940D4B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440F-B9EC-4E4C-9E95-039FD515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8E48-14A4-4C64-820A-7F1D5D48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A41F-C9C9-41AC-8517-29969CA4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6FCE-4F85-4514-9B9E-A0A69EA5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39B-56EE-4D52-BD97-B32AFBF6FE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5FAD-F9F8-41FA-986E-D2CE354A2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ords that contain unstressed vow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we remember the spellings of these tricky word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84720" y="549000"/>
            <a:ext cx="2735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i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an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ighten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ospit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jewell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t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ssenge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tation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mpromis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finite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asil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im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separat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volunta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otte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par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23050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and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explan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lat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i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arvell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abom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gener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lit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987280" y="476280"/>
            <a:ext cx="287964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is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ois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af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mem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pred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es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heave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1716120"/>
            <a:ext cx="21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8560" y="47628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568440"/>
            <a:ext cx="311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ing your list of tricky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up the words into the following categories – ending 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that contai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root words for as many of the words as you ca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prefix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words with suff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9:17:50Z</dcterms:created>
  <dc:creator>Jane Armstrong</dc:creator>
  <dc:description/>
  <dc:language>en-US</dc:language>
  <cp:lastModifiedBy>Jane Armstrong</cp:lastModifiedBy>
  <dcterms:modified xsi:type="dcterms:W3CDTF">2005-06-07T07:09:47Z</dcterms:modified>
  <cp:revision>2</cp:revision>
  <dc:subject/>
  <dc:title>Words that contain unstressed vowels</dc:title>
</cp:coreProperties>
</file>