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EDF-4723-4B7C-A10D-ABD4479E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7FC-D250-40E6-B1BE-BD604C49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E22-EFAE-4921-AD19-59B57D76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4C6-3B6E-40D8-A441-15DC5206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102C-8A8B-4C9A-B853-AE76981F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D6AC-EE76-4143-94A2-F1D32A7B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918A-FBEB-4773-8A7B-1DBD52AA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4C33-CCC8-450E-B002-7AEF2ECD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2C3C-A793-48D6-98C7-5F895B6A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68ED-FADE-4B3C-84DC-D379CCC3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4BFC-D9CE-483C-B3C4-3A5447EE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9F4-C46F-4650-B354-639CF203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408D-8C9E-4361-BE79-2DAFAE09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7AE3-A98A-4D9A-AB82-142B7E06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B2C7-82A7-47EA-9809-0638630B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3950-0BFA-4AE6-B205-38B9E957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48E2-F30A-420C-A3A4-A7BF5AF4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A6D-1166-44E1-AFDD-4B5318CF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9D3-4610-4BCE-A3D3-70122BF2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885-E075-4853-A25F-572F65C1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E05-6AA6-417E-B569-E4957680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C32-D62A-48F5-B839-A8EF6877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264-1F8E-4035-A1EC-58EC57E3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BB6-E48D-49A4-8F99-3AFA9E71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6996-16A3-497B-BAE6-4C340CF0A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FFA6-00D0-49E8-AFEA-1CCEDDF153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cosyn.us/ecocity/Challenges/drought/9-drought.JPG&amp;imgrefurl=http://www.ecosyn.us/ecocity/Challenges/drought/&amp;h=238&amp;w=200&amp;sz=59&amp;tbnid=6nXMVObJFO8J:&amp;tbnh=103&amp;tbnw=87&amp;start=1&amp;prev=/images%3Fq%3Ddrought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dayinmylife.locotek.com/photos/thoughtful.jpg&amp;imgrefurl=http://adayinmylife.locotek.com/archives/000390.PHP&amp;h=428&amp;w=346&amp;sz=13&amp;tbnid=E_zB4C-AqX4J:&amp;tbnh=121&amp;tbnw=98&amp;start=38&amp;prev=/images%3Fq%3Dthoughtful%26start%3D20%26hl%3Den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cat.edu/~childres/dough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ABC font"/>
              </a:rPr>
              <a:t>The case of the grapheme --</a:t>
            </a:r>
            <a:r>
              <a:rPr b="0" lang="en-GB" sz="4600" spc="-1" strike="noStrike">
                <a:solidFill>
                  <a:srgbClr val="ff6600"/>
                </a:solidFill>
                <a:latin typeface="ABC font"/>
              </a:rPr>
              <a:t>ough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A letter string that has many phoneme sounds- let’s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First let’s see how many you can spot. Wipe boards and pens at the read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6267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BC font"/>
              </a:rPr>
              <a:t>Drought Throughout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No rain has fallen in England for the last eighteen weeks. There is not enough water for washing and cleaning, although through careful controls, drinking supplies remain. Still Asda is making a roaring trade in bottled water. Shoppers have even fought over bottles and bought as many as restrictions would al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Farmers cannot plough land because it is too dry and pig troughs have to be filled by hand. Life is decidedly rough for the farmers throughout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Thoughtless people are wasting water by allowing taps to drip. Neighbours are asked to remind each other of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BC font"/>
              </a:rPr>
              <a:t>No foreign visitors may enter the country until the drought is o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1484280"/>
            <a:ext cx="1665360" cy="19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What phoneme sound does the grapheme –ough make in these wor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Thought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Thought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F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n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1773360"/>
            <a:ext cx="180792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What phoneme sound does the grapheme –ough make in these wor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48261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ccff"/>
                </a:solidFill>
                <a:latin typeface="ABC font"/>
              </a:rPr>
              <a:t>Alth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ccff"/>
                </a:solidFill>
                <a:latin typeface="ABC font"/>
              </a:rPr>
              <a:t>Th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ccff"/>
                </a:solidFill>
                <a:latin typeface="ABC font"/>
              </a:rPr>
              <a:t>d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2060640"/>
            <a:ext cx="13845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And these word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6666"/>
                </a:solidFill>
                <a:latin typeface="Arial"/>
              </a:rPr>
              <a:t>Drou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6666"/>
                </a:solidFill>
                <a:latin typeface="Arial"/>
              </a:rPr>
              <a:t>Pl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6666"/>
                </a:solidFill>
                <a:latin typeface="Arial"/>
              </a:rPr>
              <a:t>boug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0" y="2036880"/>
            <a:ext cx="403236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And thes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R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C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roug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2805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BC font"/>
              </a:rPr>
              <a:t>And finally what about thes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rou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Can you remember all 6 phoneme sounds that can be made with the grapheme oug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 as in capital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u as in </a:t>
            </a:r>
            <a:r>
              <a:rPr b="0" lang="en-GB" sz="3200" spc="-1" strike="noStrike">
                <a:solidFill>
                  <a:srgbClr val="ff6600"/>
                </a:solidFill>
                <a:latin typeface="ABC font"/>
              </a:rPr>
              <a:t>Ou</a:t>
            </a: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OO as in m</a:t>
            </a:r>
            <a:r>
              <a:rPr b="0" lang="en-GB" sz="3200" spc="-1" strike="noStrike">
                <a:solidFill>
                  <a:srgbClr val="ff6600"/>
                </a:solidFill>
                <a:latin typeface="ABC font"/>
              </a:rPr>
              <a:t>oo</a:t>
            </a: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BC font"/>
              </a:rPr>
              <a:t>Can you think of examples for each 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21:22:31Z</dcterms:created>
  <dc:creator>Jane Armstrong</dc:creator>
  <dc:description/>
  <dc:language>en-US</dc:language>
  <cp:lastModifiedBy>Jane Armstrong</cp:lastModifiedBy>
  <dcterms:modified xsi:type="dcterms:W3CDTF">2005-01-01T21:51:22Z</dcterms:modified>
  <cp:revision>1</cp:revision>
  <dc:subject/>
  <dc:title>The case of the grapheme --ough</dc:title>
</cp:coreProperties>
</file>