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B41-D361-42A4-819F-B6D160AB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3AE3-3432-4DAB-A3B4-5B28DEB4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F3C-87DB-402B-B6A2-9C945FFC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7FD-27DB-4826-9C31-27BE5F6E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B394-8B92-494D-A406-F6CB9413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58EF-44D0-4F23-ABDA-E8E5514F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817C-CCDC-4DFF-99A2-0D662C5D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65D4-A385-4A4A-AFF8-99D80739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2CC9-0E21-4E31-A5AB-D5835EBB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9ABB-0246-4999-98BB-0F69B651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393E-B1FC-4D63-BDAC-8EE1ED2F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7F4-8DA0-4E83-B6F1-EB39D818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64D2-E0B5-4F0E-8F21-88E980DB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FD84-9906-4DDD-B32E-16A60B24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80DF-C36A-4EEC-85DC-37AE7AC4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B451-A19B-4B55-8DA2-12EBBC6F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D27C-D264-4000-8781-8D6965AA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5851-F2FD-4212-94C2-D03DBEF1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F6D-C173-4018-8361-8831A541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D84-D372-43C9-8D8A-43144B66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094-73DA-4398-ABC9-F35C5A95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B3F-5E9F-4D83-A613-6CD67DE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793-A8B5-44A8-AB38-51F8E8C0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7D1-C01D-48B8-9D97-6362425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CC0A-E6D4-4DFC-8AC6-2088B3EF37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A433-F08C-4B98-A5EE-DEA68EC87A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dding suffixes to words with modifying </a:t>
            </a:r>
            <a:r>
              <a:rPr b="1" lang="en-GB" sz="5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elling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69105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RULES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rop the e to add vowel suffix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tain  the e to add consonant suffixes</a:t>
            </a:r>
            <a:br>
              <a:rPr sz="2000"/>
            </a:b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omplete the table below using your wipeboard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Root word       ing        ed       ly      l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a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u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x and match a handful of base words with different suffix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230184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Useful base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hear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ic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o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maz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c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616200" y="1916280"/>
            <a:ext cx="181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1773360"/>
            <a:ext cx="5040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Vowel suffixes        Consonant suffixe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g                   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d                    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h                  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r                    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                   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35840" y="1797120"/>
            <a:ext cx="21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03840" y="17254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16560" y="1797120"/>
            <a:ext cx="275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4:28:00Z</dcterms:created>
  <dc:creator>Jane Armstrong</dc:creator>
  <dc:description/>
  <dc:language>en-US</dc:language>
  <cp:lastModifiedBy>Jane Armstrong</cp:lastModifiedBy>
  <dcterms:modified xsi:type="dcterms:W3CDTF">2005-04-06T14:45:18Z</dcterms:modified>
  <cp:revision>1</cp:revision>
  <dc:subject/>
  <dc:title>Adding suffixes to words with modifying e</dc:title>
</cp:coreProperties>
</file>