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breeze.wav" ContentType="audio/x-wav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C40-D88E-4AC7-80D0-E7F95344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22D-A555-4465-A8B7-CF722E09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165-C129-4773-86F8-09173DDA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6E8-0F2D-4094-9216-1B405A73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E81-CAC4-4F21-89A2-63DF83BA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78C-AFCF-42A6-86CC-627108A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0AC-0643-49D0-BFCD-C8BE929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14-8177-4EBD-A601-522EBA8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B86-F66A-41F1-AAF5-84E3CEB9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B9A-E328-4FD3-AA1B-C6FD0CD7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ACD-89B5-44C1-991A-FDA0D5A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62F-DDE2-4031-B56E-780ABD8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DDFF-948B-4B77-B50B-FA8503A6CC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degg.com/pi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poetryofimage.com/pine%2520trees%2520in%2520snow.jpg&amp;imgrefurl=http://www.poetryofimage.com/nature2.htm&amp;h=630&amp;w=473&amp;prev=/images%3Fq%3Dpine%2Btrees%26svnum%3D10%26hl%3Den%26lr%3D%26ie%3DUTF-8%26o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clasohm.com/photodb/img/4917-md.jpg&amp;imgrefurl=http://www.clasohm.com/photodb/photo%3Fphoto_id%3D4917&amp;h=620&amp;w=683&amp;prev=/images%3Fq%3Dblack%2Bknight%26svnum%3D10%26hl%3Den%26lr%3D%26ie%3DUTF-8%26o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freespace.virgin.net/abi.bown/illustrations/charlotte.jpg&amp;imgrefurl=http://freespace.virgin.net/abi.bown/chapters/charlotte.html&amp;h=400&amp;w=456&amp;prev=/images%3Fq%3Dcharlottes%2Bweb%26svnum%3D10%26hl%3Den%26lr%3D%26ie%3DUTF-8%26oe%3DUTF-8%26sa%3DG" TargetMode="External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www.washington.edu/newsroom/news/images/flies.jpg&amp;imgrefurl=http://www.washington.edu/newsroom/news/images/&amp;h=1000&amp;w=1280&amp;prev=/images%3Fq%3Dflies%26svnum%3D10%26hl%3Den%26lr%3D%26ie%3DUTF-8%26oe%3DUTF-8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ctiontreasurehunts.co.uk/images/red%20london%20bus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Comic Sans MS"/>
              </a:rPr>
              <a:t>The long vowel phoneme 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is linked to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Comic Sans MS"/>
              </a:rPr>
              <a:t>four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different spelling choices or grap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Comic Sans MS"/>
              </a:rPr>
              <a:t>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99ff66"/>
                </a:solidFill>
                <a:latin typeface="Comic Sans MS"/>
              </a:rPr>
              <a:t>i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6699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you have many graphemes to remember this week! Let’s start with </a:t>
            </a:r>
            <a:r>
              <a:rPr b="0" lang="en-GB" sz="3200" spc="-1" strike="noStrike" u="sng">
                <a:solidFill>
                  <a:srgbClr val="99ff66"/>
                </a:solidFill>
                <a:uFillTx/>
                <a:latin typeface="Comic Sans MS"/>
              </a:rPr>
              <a:t>i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member the rhy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</a:rPr>
              <a:t>‘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When two vowels go a-walk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The one in front does the talking.’</a:t>
            </a:r>
            <a:r>
              <a:rPr b="1" i="1" lang="en-GB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Well you can use it with to jog your memory when you use </a:t>
            </a:r>
            <a:r>
              <a:rPr b="1" i="1" lang="en-GB" sz="2400" spc="-1" strike="noStrike">
                <a:solidFill>
                  <a:srgbClr val="99ff66"/>
                </a:solidFill>
                <a:latin typeface="Comic Sans MS"/>
              </a:rPr>
              <a:t>ie</a:t>
            </a:r>
            <a:r>
              <a:rPr b="1" i="1" lang="en-GB" sz="2400" spc="-1" strike="noStrike">
                <a:solidFill>
                  <a:srgbClr val="00ffff"/>
                </a:solidFill>
                <a:latin typeface="Comic Sans MS"/>
              </a:rPr>
              <a:t> in a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’d just love some of that cheese and onion pie, but I’m on a diet!” sighed poor old m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349360"/>
            <a:ext cx="20764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Let’s move on to 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-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laced at the end of the word makes the vowel in front say it’s n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im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d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lic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n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p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qu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it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k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l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 quite like to write about the beautiful pine trees in my garden, when they are covered in soft white sn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844640"/>
            <a:ext cx="15476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The next grapheme is probably the most tricky so you had better put on your thinking caps for this one!</a:t>
            </a:r>
            <a:br>
              <a:rPr sz="2400"/>
            </a:b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It’s </a:t>
            </a:r>
            <a:r>
              <a:rPr b="0" i="1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i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was a terribl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o see the brave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the evil black k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 in the tourna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497480"/>
            <a:ext cx="2160720" cy="1969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Comic Sans MS"/>
              </a:rPr>
              <a:t>The last one is </a:t>
            </a:r>
            <a:r>
              <a:rPr b="0" lang="en-GB" sz="6600" spc="-1" strike="noStrike">
                <a:solidFill>
                  <a:srgbClr val="ff0066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This one is easy to remember as this grapheme usually appears at the end of a wo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Which one is the odd one out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u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p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e, by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Wilbur the amazing pig could only cry when his shy friend Charlotte the spider died, in his sty in Ju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Bye, bye, Charlotte, my true friend”, he sobb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789360"/>
            <a:ext cx="2592360" cy="2276640"/>
          </a:xfrm>
          <a:prstGeom prst="rect">
            <a:avLst/>
          </a:prstGeom>
          <a:ln w="0">
            <a:noFill/>
          </a:ln>
        </p:spPr>
      </p:pic>
    </p:spTree>
  </p:cSld>
  <p:transition>
    <p:cover dir="ld"/>
    <p:sndAc>
      <p:stSnd>
        <p:snd r:embed="rId3" name="breeze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Now it’s your turn, write the words as plurals. </a:t>
            </a:r>
            <a:r>
              <a:rPr b="0" lang="en-GB" sz="2800" spc="-1" strike="noStrike">
                <a:solidFill>
                  <a:srgbClr val="ff0066"/>
                </a:solidFill>
                <a:latin typeface="Comic Sans MS"/>
              </a:rPr>
              <a:t>Remember with words ending in y, take off the y and add –i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 hate flies as they carry germs,” said Mrs. M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844640"/>
            <a:ext cx="2826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Comic Sans MS"/>
              </a:rPr>
              <a:t>So what’s been happening lately to Peter Goodfellow, the kindly tramp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hide in a bus shelter. With a smile he wiped his face with his tie. He dug down into his jacket pocket and found a two pound coins. A bright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ride on the bus for a mile or two and stop off for a nice, slice of pie and some fried tomatoes at The Light Bite Cafe. Wonderful!” he sig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941720"/>
            <a:ext cx="1841400" cy="1730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48360" y="5661000"/>
            <a:ext cx="1663920" cy="99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Well did you spot all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phoneme words? There were 14, did you find them all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218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had been raining and Peter had gone to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h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n a bus shelter. With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wip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is face with his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 He dug down into his jacket pocket and found a two pound coins.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brigh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red bus was com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might just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id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n the bus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l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r two and stop off for a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lic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of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pi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and som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fri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tomatoes at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ight Bite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fe. Wonderful!” 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ighed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451640" y="4653000"/>
            <a:ext cx="15163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Can you remember all the graphemes that can be used to make the long vowel phoneme,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-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ig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5:56:06Z</dcterms:created>
  <dc:creator>Jane Armstrong</dc:creator>
  <dc:description/>
  <dc:language>en-US</dc:language>
  <cp:lastModifiedBy>Jane Armstrong</cp:lastModifiedBy>
  <dcterms:modified xsi:type="dcterms:W3CDTF">2003-11-01T17:15:32Z</dcterms:modified>
  <cp:revision>2</cp:revision>
  <dc:subject/>
  <dc:title>The long vowel phoneme ie</dc:title>
</cp:coreProperties>
</file>