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F0C-877F-44E0-8BB4-5F5AED59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B8D-C9FC-4E37-B701-46618B6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DF2-968F-48F4-820A-B334B2A4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92C-27FB-4552-B370-920A0DD8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801D-5B45-46CB-81C4-2B3B1F2C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A786-D565-4162-969C-E2EC255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6442-F4C0-4464-BBFA-BE2283D3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6CE7-4B8E-4725-9548-B325B127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F6EF-DFC0-460B-A4A4-85CB7FF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A65D-7519-464C-985E-3A62090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2E0-0B64-4FE2-8B1B-C23E428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C63-68EB-419D-8724-73166C2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AA8-D123-4BCA-B7AB-3D158C2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076-6ABA-44AC-B445-2DE1AD8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CE0-5889-439E-BE8C-04B16AE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8FA-863B-479E-9157-2EEC228B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A2D-0C2F-49A9-A697-123D4FC6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66F-20F4-4971-A991-9682263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ED7-997C-435F-958B-E547C59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051-1FBB-4722-A798-24A16D9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CA2-D2FE-42EA-BB55-8F0C23B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89D-CFAB-4B5C-9DE2-879ECFA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971-60CE-4401-9E89-CD6C439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B7A-3A4C-4AA9-B111-30789D1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F6F-1D4A-4D49-9BCE-2F001D801C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7719-AA04-4243-A28F-D45643BE89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APPLAUSE.WAV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Wants to be a Millionai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Quiz G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095880" y="45720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800600"/>
            <a:ext cx="1295640" cy="129528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just won £3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205740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133720"/>
            <a:ext cx="9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219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many players are there on a football team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20040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1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048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5791320" y="3886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9718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886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21280" y="3124080"/>
            <a:ext cx="2925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country would you find Par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German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 U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Austral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657600" y="2286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657600" y="30481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91520" y="2209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7391520" y="312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04920" y="3581280"/>
            <a:ext cx="16668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which sport would you use a sab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290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Fenc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Po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Ju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Lacros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3581280" y="3352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315200" y="32767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315200" y="4191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114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28600" y="3200400"/>
            <a:ext cx="1557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51460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C - 11 play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have lost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endshow"/>
            <a:hlinkClick r:id="rId1"/>
          </p:cNvPr>
          <p:cNvSpPr/>
          <p:nvPr/>
        </p:nvSpPr>
        <p:spPr>
          <a:xfrm>
            <a:off x="3657600" y="5181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3657600" y="5334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rect!  You have won £10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rId1"/>
          </p:cNvPr>
          <p:cNvSpPr/>
          <p:nvPr/>
        </p:nvSpPr>
        <p:spPr>
          <a:xfrm>
            <a:off x="3505320" y="281952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95480"/>
            <a:ext cx="8254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r answer was, France.  You had £1000.  You now have £2000.  Well d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403848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352680"/>
            <a:ext cx="1195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60948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question was, “In which country would you find Paris.  The correct answer was D - France.  You have just lost £1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  <a:hlinkClick r:id="rId1"/>
          </p:cNvPr>
          <p:cNvSpPr/>
          <p:nvPr/>
        </p:nvSpPr>
        <p:spPr>
          <a:xfrm>
            <a:off x="3505320" y="373392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88620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533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rry, that is the wrong answer.  The correct answer was A - Fencing.  You have just lost £2000.  Thank you for pla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endshow"/>
            <a:hlinkClick r:id="rId1"/>
          </p:cNvPr>
          <p:cNvSpPr/>
          <p:nvPr/>
        </p:nvSpPr>
        <p:spPr>
          <a:xfrm>
            <a:off x="3429000" y="289548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048120"/>
            <a:ext cx="12049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3:27:23Z</dcterms:created>
  <dc:creator>Caroline Coster</dc:creator>
  <dc:description/>
  <dc:language>en-US</dc:language>
  <cp:lastModifiedBy>Caroline Coster</cp:lastModifiedBy>
  <dcterms:modified xsi:type="dcterms:W3CDTF">2001-02-22T14:06:15Z</dcterms:modified>
  <cp:revision>1</cp:revision>
  <dc:subject/>
  <dc:title>Who Wants to be a Millionaire?</dc:title>
</cp:coreProperties>
</file>