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6545-9AC2-43BD-8C09-DA175093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CAB-F1E4-4538-ACA8-451824F85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AE28-6A02-4393-B3A4-0E1E8611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BCF-281E-48CF-8E51-31FCBA92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F02A-0EE4-45C2-91E9-D5284666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254-8B39-45D4-B2B8-F62DC6E1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E6C-DA4A-495E-8C79-66C55D82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B0B-E7A8-4D24-B621-D6D97CA1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975-CBE4-4B79-8418-D6AB4573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AD3-FB49-4443-B68B-9D5E128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A1C-38AE-4CEE-B8F6-91AA7F6C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5A4-768E-4C97-B285-CE0E68C7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BA33-D8E3-4514-8974-9C690BB8B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nese Coo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cken Frie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ely dice half an o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piece of cooked chicken to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rasher of lean bacon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t an egg in a cup with a level teaspoon of 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rost half a cup frozen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23040" y="2948040"/>
            <a:ext cx="248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oking the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l a mug with long gra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a half full saucepan of water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boiling, add the rice and stir until it comes back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il for 9 minut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from heat and fill with col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in into a s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rice to the empty saucepan an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3600" y="3240000"/>
            <a:ext cx="2425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the fried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ll the ingredients to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3 tbsp oil in a wok or large frying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onion and bacon and fry for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down the heat and add the beaten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k until i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to break it up into small pieces and then turn up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chicken and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4076640"/>
            <a:ext cx="403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and add 1 tsp of soy    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in the boiled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on with salt &amp; pepper and stir and heat thr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18080" y="1600200"/>
            <a:ext cx="22986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06:57Z</dcterms:created>
  <dc:creator>Gary Martin</dc:creator>
  <dc:description/>
  <dc:language>en-US</dc:language>
  <cp:lastModifiedBy>Gary Martin</cp:lastModifiedBy>
  <dcterms:modified xsi:type="dcterms:W3CDTF">2003-01-02T18:01:42Z</dcterms:modified>
  <cp:revision>3</cp:revision>
  <dc:subject/>
  <dc:title>Chinese Cookery</dc:title>
</cp:coreProperties>
</file>