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7D27-1BE5-4CCE-B250-014668F5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2BF9-384E-4D23-9EEA-A43F21C3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6FB2-9C03-4A0A-8FA8-6A749CF3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98A0-BF57-4A34-B752-0AA4C447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ADC4B-3984-4D52-9386-168EF463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D836D-CE01-44CD-B968-EB8BA3C2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6587A-79F1-4BE2-AA5A-69EB2E8E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59F47-C77E-464F-B38A-A65CF9BC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B561B-A895-41E3-A0A7-065E1E52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22305-F908-4E6E-B247-12CBC4A1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B4342-E8B2-4369-B361-7BC5CEDE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227D-6A89-4D9F-BF9C-F2161963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CDD67-6D9A-42CB-BDAB-B56B192B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C25E0-332D-4F67-88ED-7C6A9FB5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167C3-24F7-4DB3-8E34-A24BB6FE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BCF10-75F2-4CB3-B2C2-053D0ADF2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5B292A-A9CD-4D28-AEB0-0D7EAFFD9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2035-5F05-4992-A047-BF0A11F8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C897-F28B-4390-8A51-8DDA8A92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DF66-0C3A-493C-A6D3-2B3D3474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1EF4-BE0C-4EBE-8B1C-006F9040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C186-299D-4D59-BB70-0085BDB3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627-5F86-4483-921F-0573AAAC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E3BF-6DCF-457F-A9B0-D4F25CBC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B54E-55E7-4385-8ACB-C512AA538C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A321-C9E8-47E0-98C9-D083A1557E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</a:rPr>
              <a:t>Electronic whiteboards and Powerpoint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838080"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565000"/>
            <a:ext cx="64008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Duration 2 ho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mphasis on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Practical  and enjoy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Electronic whiteboard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quipment need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actical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58640"/>
            <a:ext cx="8229600" cy="37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use as a teaching t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or the pupils to present their work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record an ev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3360"/>
            <a:ext cx="69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uitable uses for Powerpoint in the classro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oday’s 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ame of Who Wants to be a Millionai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how Chinese Cookery presenta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actical exercise creating PP presenta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mo a few good examples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genda (continued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ow to personalise the Millionaire fil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imary Maths using the whiteboard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ook at the PP examples from teacher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ool idea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ovide CD to 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5T16:27:38Z</dcterms:created>
  <dc:creator>Gary Martin</dc:creator>
  <dc:description/>
  <dc:language>en-US</dc:language>
  <cp:lastModifiedBy>Gary Martin</cp:lastModifiedBy>
  <dcterms:modified xsi:type="dcterms:W3CDTF">2003-01-05T16:44:38Z</dcterms:modified>
  <cp:revision>2</cp:revision>
  <dc:subject/>
  <dc:title>Electronic whiteboards and Powerpoint  </dc:title>
</cp:coreProperties>
</file>