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86729-BFE8-478D-8B3F-CD64628F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C2A1-3FF4-4162-86F6-8E37FEB2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0D6E-FD89-4DA0-BE31-7C28C5C8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52E0-C920-4876-9DB8-0B4FF245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C4DD-5397-452E-AB00-D774DE754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0A8-C0DF-4729-A9DD-636BCCEA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389A-D68E-4D97-AF95-18D876AA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5D9-CDF3-4839-89C6-212345A6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BD2D-88DF-4F2E-99F9-3BC7C087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8FAB-793D-4B38-B97A-CBCFE090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6EC5-EF30-4B12-BDA0-267CCBB6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D490F-6185-4D5D-85ED-3E01FD37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9052-775E-45EB-98F6-2C0659A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0C5E-22E3-4C06-A2DC-CB6C36D8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5ADC-225E-4481-B564-22DD1372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D16-1CE3-46EE-8173-DBFC9F33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B5CF-42CF-44A2-808D-CD4A98B7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D1ED0-DEF1-4CDA-AE47-D560A18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A80F-76B9-43DB-AF1E-429E6B14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199AF-4FD5-41F7-B79F-C110EA5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3B94-3E0D-4A4C-A308-0A4FE5A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DC54-E45A-4EEE-83DE-E9DDA996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F8F2-5FB8-450B-928E-57A8050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D6DC-15CA-4E0A-BB6B-92A45864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1A51-4098-4C36-8C05-0837D254E7A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FECC-9472-4AF3-9227-8902C7765D7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Chinese Cooke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icken Fried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Prepa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ely dice half an on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piece of cooked chicken to the same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rasher of lean bacon the same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at an egg in a cup with a level teaspoon of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rost half a cup frozen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23040" y="2949480"/>
            <a:ext cx="24890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ooking the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ll a mug with long grain r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ring a half full saucepan of water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il for 9 minutes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move from heat and fill with cold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ain into a sie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turn rice to the empty saucepan and c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63600" y="3241800"/>
            <a:ext cx="242568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Making the fried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ll the ingredients to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at 3 tbsp oil in a wok or large frying 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onion and bacon and fry for 2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urn down the heat and add the beaten e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k until it s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ir to break it up into small pieces and then turn up the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chicken and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BON APPETI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3T09:04:11Z</dcterms:modified>
  <cp:revision>7</cp:revision>
  <dc:subject/>
  <dc:title>Chinese Cookery</dc:title>
</cp:coreProperties>
</file>