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1D5-D485-4D36-86A4-CF005B01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2EC6-5DD3-42B7-841F-4B1B04C7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09F0-3360-4555-8033-06FC31DE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AB6-AF2D-48C9-908A-0DEE8984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1F1-E8A8-4892-94EE-5FFDAE7E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B66F-E2D3-4922-A26E-B3644A60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10D-DF38-42D4-B19C-C24B78EE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CAA-77AB-426B-8E30-A0179E56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419-5431-410B-BB1A-605042B2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718-BAE4-4317-8A83-66C9EC61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3EC-7B50-420B-89F5-543C14DF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0BD-E3D2-4873-8DF2-A774D83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248B-5EAD-4B70-B41F-F75416094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Coo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Frie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ly dice half an o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piece of cooked chicken to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rasher of lean baco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t an egg in a cup with a level teaspoon of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rost half a cup frozen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23040" y="2948040"/>
            <a:ext cx="24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the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l a mug with long gra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 half full saucepan of water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il for 9 minut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from heat and fill with c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in into a s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rice to the empty saucepan an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3600" y="3240000"/>
            <a:ext cx="2425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the fried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ll the ingredients to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3 tbsp oil in a wok or large frying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onion and bacon and fry for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down the heat and add the beaten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 until i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to break it up into small pieces and then turn up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chicken and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2T17:42:46Z</dcterms:modified>
  <cp:revision>2</cp:revision>
  <dc:subject/>
  <dc:title>Chinese Cookery</dc:title>
</cp:coreProperties>
</file>